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26.png" ContentType="image/png"/>
  <Override PartName="/ppt/media/image10.wmf" ContentType="image/x-wmf"/>
  <Override PartName="/ppt/media/image4.jpeg" ContentType="image/jpeg"/>
  <Override PartName="/ppt/media/image25.png" ContentType="image/png"/>
  <Override PartName="/ppt/media/image13.wmf" ContentType="image/x-wmf"/>
  <Override PartName="/ppt/media/image28.png" ContentType="image/png"/>
  <Override PartName="/ppt/media/image8.wmf" ContentType="image/x-wmf"/>
  <Override PartName="/ppt/media/image12.wmf" ContentType="image/x-wmf"/>
  <Override PartName="/ppt/media/image27.png" ContentType="image/png"/>
  <Override PartName="/ppt/media/image7.wmf" ContentType="image/x-wmf"/>
  <Override PartName="/ppt/media/image6.jpeg" ContentType="image/jpeg"/>
  <Override PartName="/ppt/media/image9.wmf" ContentType="image/x-wmf"/>
  <Override PartName="/ppt/media/image5.jpeg" ContentType="image/jpeg"/>
  <Override PartName="/ppt/media/image18.wmf" ContentType="image/x-wmf"/>
  <Override PartName="/ppt/media/image2.jpeg" ContentType="image/jpeg"/>
  <Override PartName="/ppt/media/image23.png" ContentType="image/png"/>
  <Override PartName="/ppt/media/image22.wmf" ContentType="image/x-wmf"/>
  <Override PartName="/ppt/media/image21.jpeg" ContentType="image/jpeg"/>
  <Override PartName="/ppt/media/image15.wmf" ContentType="image/x-wmf"/>
  <Override PartName="/ppt/media/image20.png" ContentType="image/png"/>
  <Override PartName="/ppt/media/image19.png" ContentType="image/png"/>
  <Override PartName="/ppt/media/image3.jpeg" ContentType="image/jpeg"/>
  <Override PartName="/ppt/media/image17.wmf" ContentType="image/x-wmf"/>
  <Override PartName="/ppt/media/image16.wmf" ContentType="image/x-wmf"/>
  <Override PartName="/ppt/media/image29.png" ContentType="image/png"/>
  <Override PartName="/ppt/media/image14.wmf" ContentType="image/x-wmf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10152063" cy="758825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CADC-513E-46D5-B0FC-AEBF54A40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8160" y="10080"/>
            <a:ext cx="8693280" cy="708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71640" y="1562040"/>
            <a:ext cx="8540640" cy="19656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100" spc="-1" strike="noStrike">
              <a:solidFill>
                <a:srgbClr val="003366"/>
              </a:solidFill>
              <a:latin typeface="Book Antiqu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71640" y="3714840"/>
            <a:ext cx="8540640" cy="19656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100" spc="-1" strike="noStrike">
              <a:solidFill>
                <a:srgbClr val="00336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B5AD-5E7B-4175-A86E-729E77A27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8160" y="10080"/>
            <a:ext cx="8693280" cy="708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71640" y="1562040"/>
            <a:ext cx="4167720" cy="19656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100" spc="-1" strike="noStrike">
              <a:solidFill>
                <a:srgbClr val="003366"/>
              </a:solidFill>
              <a:latin typeface="Book Antiqu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48160" y="1562040"/>
            <a:ext cx="4167720" cy="19656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100" spc="-1" strike="noStrike">
              <a:solidFill>
                <a:srgbClr val="003366"/>
              </a:solidFill>
              <a:latin typeface="Book Antiqu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71640" y="3714840"/>
            <a:ext cx="4167720" cy="19656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100" spc="-1" strike="noStrike">
              <a:solidFill>
                <a:srgbClr val="003366"/>
              </a:solidFill>
              <a:latin typeface="Book Antiqu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48160" y="3714840"/>
            <a:ext cx="4167720" cy="19656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100" spc="-1" strike="noStrike">
              <a:solidFill>
                <a:srgbClr val="00336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289E-D951-4B60-B91B-B778C5953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18160" y="10080"/>
            <a:ext cx="8693280" cy="708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71640" y="1562040"/>
            <a:ext cx="2749680" cy="19656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100" spc="-1" strike="noStrike">
              <a:solidFill>
                <a:srgbClr val="003366"/>
              </a:solidFill>
              <a:latin typeface="Book Antiqu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59200" y="1562040"/>
            <a:ext cx="2749680" cy="19656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100" spc="-1" strike="noStrike">
              <a:solidFill>
                <a:srgbClr val="003366"/>
              </a:solidFill>
              <a:latin typeface="Book Antiqu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46760" y="1562040"/>
            <a:ext cx="2749680" cy="19656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100" spc="-1" strike="noStrike">
              <a:solidFill>
                <a:srgbClr val="003366"/>
              </a:solidFill>
              <a:latin typeface="Book Antiqu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71640" y="3714840"/>
            <a:ext cx="2749680" cy="19656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100" spc="-1" strike="noStrike">
              <a:solidFill>
                <a:srgbClr val="003366"/>
              </a:solidFill>
              <a:latin typeface="Book Antiqu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59200" y="3714840"/>
            <a:ext cx="2749680" cy="19656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100" spc="-1" strike="noStrike">
              <a:solidFill>
                <a:srgbClr val="003366"/>
              </a:solidFill>
              <a:latin typeface="Book Antiqu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746760" y="3714840"/>
            <a:ext cx="2749680" cy="19656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100" spc="-1" strike="noStrike">
              <a:solidFill>
                <a:srgbClr val="00336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DB5D-957D-4156-989F-47C37D877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332FD-42EE-4D82-952D-8E446FAC8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8160" y="10080"/>
            <a:ext cx="8693280" cy="708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71640" y="1562040"/>
            <a:ext cx="854064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100" spc="-1" strike="noStrike">
              <a:solidFill>
                <a:srgbClr val="00666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9DBEB-FECC-4BFF-AE3A-3337E3D7D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160" y="10080"/>
            <a:ext cx="8693280" cy="708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71640" y="1562040"/>
            <a:ext cx="8540640" cy="4121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100" spc="-1" strike="noStrike">
              <a:solidFill>
                <a:srgbClr val="00336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C1D82-82A3-4D08-B3CF-3ADF77D08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160" y="10080"/>
            <a:ext cx="8693280" cy="708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71640" y="1562040"/>
            <a:ext cx="4167720" cy="4121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100" spc="-1" strike="noStrike">
              <a:solidFill>
                <a:srgbClr val="003366"/>
              </a:solidFill>
              <a:latin typeface="Book Antiq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48160" y="1562040"/>
            <a:ext cx="4167720" cy="4121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100" spc="-1" strike="noStrike">
              <a:solidFill>
                <a:srgbClr val="00336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80AEB-1679-42E5-86B9-CBF2892A6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8160" y="10080"/>
            <a:ext cx="8693280" cy="708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6D7B9-CAEB-4A77-9F19-3DE3BB8D5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218160" y="10080"/>
            <a:ext cx="8693280" cy="32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100" spc="-1" strike="noStrike">
              <a:solidFill>
                <a:srgbClr val="00666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82B82-67E1-48B2-A56A-021C94ED3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160" y="10080"/>
            <a:ext cx="8693280" cy="708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640" y="1562040"/>
            <a:ext cx="4167720" cy="19656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100" spc="-1" strike="noStrike">
              <a:solidFill>
                <a:srgbClr val="003366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48160" y="1562040"/>
            <a:ext cx="4167720" cy="4121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100" spc="-1" strike="noStrike">
              <a:solidFill>
                <a:srgbClr val="003366"/>
              </a:solidFill>
              <a:latin typeface="Book Antiqu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71640" y="3714840"/>
            <a:ext cx="4167720" cy="19656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100" spc="-1" strike="noStrike">
              <a:solidFill>
                <a:srgbClr val="00336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1C0E9-18CC-4949-9599-48603C47A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8160" y="10080"/>
            <a:ext cx="8693280" cy="708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71640" y="1562040"/>
            <a:ext cx="854064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100" spc="-1" strike="noStrike">
              <a:solidFill>
                <a:srgbClr val="00666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5550-4CDF-4915-B28D-DB92995FA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8160" y="10080"/>
            <a:ext cx="8693280" cy="708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71640" y="1562040"/>
            <a:ext cx="4167720" cy="4121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100" spc="-1" strike="noStrike">
              <a:solidFill>
                <a:srgbClr val="003366"/>
              </a:solidFill>
              <a:latin typeface="Book Antiqu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48160" y="1562040"/>
            <a:ext cx="4167720" cy="19656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100" spc="-1" strike="noStrike">
              <a:solidFill>
                <a:srgbClr val="003366"/>
              </a:solidFill>
              <a:latin typeface="Book Antiqu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48160" y="3714840"/>
            <a:ext cx="4167720" cy="19656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100" spc="-1" strike="noStrike">
              <a:solidFill>
                <a:srgbClr val="00336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20371-EBE4-479D-8055-9B4CDAD8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8160" y="10080"/>
            <a:ext cx="8693280" cy="708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640" y="1562040"/>
            <a:ext cx="4167720" cy="19656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100" spc="-1" strike="noStrike">
              <a:solidFill>
                <a:srgbClr val="003366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48160" y="1562040"/>
            <a:ext cx="4167720" cy="19656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100" spc="-1" strike="noStrike">
              <a:solidFill>
                <a:srgbClr val="003366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71640" y="3714840"/>
            <a:ext cx="8540640" cy="19656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100" spc="-1" strike="noStrike">
              <a:solidFill>
                <a:srgbClr val="00336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A8775-F889-4FDE-AEF1-C39847439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18160" y="10080"/>
            <a:ext cx="8693280" cy="708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71640" y="1562040"/>
            <a:ext cx="8540640" cy="19656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100" spc="-1" strike="noStrike">
              <a:solidFill>
                <a:srgbClr val="003366"/>
              </a:solidFill>
              <a:latin typeface="Book Antiqu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71640" y="3714840"/>
            <a:ext cx="8540640" cy="19656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100" spc="-1" strike="noStrike">
              <a:solidFill>
                <a:srgbClr val="00336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71B67-8D5B-4E76-B1E5-78A36E9DE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8160" y="10080"/>
            <a:ext cx="8693280" cy="708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71640" y="1562040"/>
            <a:ext cx="4167720" cy="19656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100" spc="-1" strike="noStrike">
              <a:solidFill>
                <a:srgbClr val="003366"/>
              </a:solidFill>
              <a:latin typeface="Book Antiq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348160" y="1562040"/>
            <a:ext cx="4167720" cy="19656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100" spc="-1" strike="noStrike">
              <a:solidFill>
                <a:srgbClr val="003366"/>
              </a:solidFill>
              <a:latin typeface="Book Antiq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71640" y="3714840"/>
            <a:ext cx="4167720" cy="19656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100" spc="-1" strike="noStrike">
              <a:solidFill>
                <a:srgbClr val="003366"/>
              </a:solidFill>
              <a:latin typeface="Book Antiq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348160" y="3714840"/>
            <a:ext cx="4167720" cy="19656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100" spc="-1" strike="noStrike">
              <a:solidFill>
                <a:srgbClr val="00336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4B9F4-B53A-4747-B126-7027F82F8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8160" y="10080"/>
            <a:ext cx="8693280" cy="708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71640" y="1562040"/>
            <a:ext cx="2749680" cy="19656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100" spc="-1" strike="noStrike">
              <a:solidFill>
                <a:srgbClr val="003366"/>
              </a:solidFill>
              <a:latin typeface="Book Antiqu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859200" y="1562040"/>
            <a:ext cx="2749680" cy="19656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100" spc="-1" strike="noStrike">
              <a:solidFill>
                <a:srgbClr val="003366"/>
              </a:solidFill>
              <a:latin typeface="Book Antiqu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746760" y="1562040"/>
            <a:ext cx="2749680" cy="19656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100" spc="-1" strike="noStrike">
              <a:solidFill>
                <a:srgbClr val="003366"/>
              </a:solidFill>
              <a:latin typeface="Book Antiqu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71640" y="3714840"/>
            <a:ext cx="2749680" cy="19656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100" spc="-1" strike="noStrike">
              <a:solidFill>
                <a:srgbClr val="003366"/>
              </a:solidFill>
              <a:latin typeface="Book Antiqu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859200" y="3714840"/>
            <a:ext cx="2749680" cy="19656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100" spc="-1" strike="noStrike">
              <a:solidFill>
                <a:srgbClr val="003366"/>
              </a:solidFill>
              <a:latin typeface="Book Antiqu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746760" y="3714840"/>
            <a:ext cx="2749680" cy="19656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100" spc="-1" strike="noStrike">
              <a:solidFill>
                <a:srgbClr val="00336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6043D-3F42-4BA3-82F4-B51507CC7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8160" y="10080"/>
            <a:ext cx="8693280" cy="708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71640" y="1562040"/>
            <a:ext cx="8540640" cy="4121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100" spc="-1" strike="noStrike">
              <a:solidFill>
                <a:srgbClr val="00336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E012-D8C1-4836-B4F3-323DF1346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8160" y="10080"/>
            <a:ext cx="8693280" cy="708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71640" y="1562040"/>
            <a:ext cx="4167720" cy="4121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100" spc="-1" strike="noStrike">
              <a:solidFill>
                <a:srgbClr val="003366"/>
              </a:solidFill>
              <a:latin typeface="Book Antiqu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48160" y="1562040"/>
            <a:ext cx="4167720" cy="4121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100" spc="-1" strike="noStrike">
              <a:solidFill>
                <a:srgbClr val="00336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B35F-DF6F-4512-9892-EB21EE32A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8160" y="10080"/>
            <a:ext cx="8693280" cy="708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6464-E843-4381-AFF9-00CE72B9B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18160" y="10080"/>
            <a:ext cx="8693280" cy="32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100" spc="-1" strike="noStrike">
              <a:solidFill>
                <a:srgbClr val="00666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85DE-1993-48F5-8C3D-0F09EA7F5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8160" y="10080"/>
            <a:ext cx="8693280" cy="708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71640" y="1562040"/>
            <a:ext cx="4167720" cy="19656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100" spc="-1" strike="noStrike">
              <a:solidFill>
                <a:srgbClr val="003366"/>
              </a:solidFill>
              <a:latin typeface="Book Antiq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48160" y="1562040"/>
            <a:ext cx="4167720" cy="4121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100" spc="-1" strike="noStrike">
              <a:solidFill>
                <a:srgbClr val="003366"/>
              </a:solidFill>
              <a:latin typeface="Book Antiq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71640" y="3714840"/>
            <a:ext cx="4167720" cy="19656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100" spc="-1" strike="noStrike">
              <a:solidFill>
                <a:srgbClr val="00336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0FBA-E225-4E50-8C6C-8D3218787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8160" y="10080"/>
            <a:ext cx="8693280" cy="708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71640" y="1562040"/>
            <a:ext cx="4167720" cy="4121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100" spc="-1" strike="noStrike">
              <a:solidFill>
                <a:srgbClr val="003366"/>
              </a:solidFill>
              <a:latin typeface="Book Antiq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48160" y="1562040"/>
            <a:ext cx="4167720" cy="19656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100" spc="-1" strike="noStrike">
              <a:solidFill>
                <a:srgbClr val="003366"/>
              </a:solidFill>
              <a:latin typeface="Book Antiq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48160" y="3714840"/>
            <a:ext cx="4167720" cy="19656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100" spc="-1" strike="noStrike">
              <a:solidFill>
                <a:srgbClr val="00336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E888-8B25-451E-B185-A3746CCE2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8160" y="10080"/>
            <a:ext cx="8693280" cy="708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71640" y="1562040"/>
            <a:ext cx="4167720" cy="19656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100" spc="-1" strike="noStrike">
              <a:solidFill>
                <a:srgbClr val="003366"/>
              </a:solidFill>
              <a:latin typeface="Book Antiq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48160" y="1562040"/>
            <a:ext cx="4167720" cy="19656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100" spc="-1" strike="noStrike">
              <a:solidFill>
                <a:srgbClr val="003366"/>
              </a:solidFill>
              <a:latin typeface="Book Antiqu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71640" y="3714840"/>
            <a:ext cx="8540640" cy="19656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100" spc="-1" strike="noStrike">
              <a:solidFill>
                <a:srgbClr val="00336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9597-C1DD-4786-9152-FBC41531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-22320"/>
            <a:ext cx="844560" cy="758196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06520" y="-28440"/>
            <a:ext cx="8240760" cy="1463400"/>
          </a:xfrm>
          <a:custGeom>
            <a:avLst/>
            <a:gdLst/>
            <a:ahLst/>
            <a:rect l="l" t="t" r="r" b="b"/>
            <a:pathLst>
              <a:path w="1728" h="735">
                <a:moveTo>
                  <a:pt x="1728" y="0"/>
                </a:moveTo>
                <a:lnTo>
                  <a:pt x="1728" y="480"/>
                </a:lnTo>
                <a:lnTo>
                  <a:pt x="380" y="482"/>
                </a:lnTo>
                <a:lnTo>
                  <a:pt x="354" y="480"/>
                </a:lnTo>
                <a:lnTo>
                  <a:pt x="308" y="489"/>
                </a:lnTo>
                <a:cubicBezTo>
                  <a:pt x="290" y="498"/>
                  <a:pt x="263" y="513"/>
                  <a:pt x="246" y="531"/>
                </a:cubicBezTo>
                <a:cubicBezTo>
                  <a:pt x="229" y="549"/>
                  <a:pt x="215" y="574"/>
                  <a:pt x="206" y="597"/>
                </a:cubicBezTo>
                <a:cubicBezTo>
                  <a:pt x="197" y="620"/>
                  <a:pt x="194" y="643"/>
                  <a:pt x="192" y="666"/>
                </a:cubicBezTo>
                <a:lnTo>
                  <a:pt x="192" y="735"/>
                </a:lnTo>
                <a:lnTo>
                  <a:pt x="0" y="735"/>
                </a:lnTo>
                <a:lnTo>
                  <a:pt x="0" y="480"/>
                </a:lnTo>
                <a:lnTo>
                  <a:pt x="0" y="0"/>
                </a:lnTo>
                <a:lnTo>
                  <a:pt x="1728" y="0"/>
                </a:lnTo>
                <a:close/>
              </a:path>
            </a:pathLst>
          </a:cu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253800" y="843120"/>
            <a:ext cx="8493120" cy="353520"/>
            <a:chOff x="253800" y="843120"/>
            <a:chExt cx="8493120" cy="353520"/>
          </a:xfrm>
        </p:grpSpPr>
        <p:sp>
          <p:nvSpPr>
            <p:cNvPr id="3" name=""/>
            <p:cNvSpPr/>
            <p:nvPr/>
          </p:nvSpPr>
          <p:spPr>
            <a:xfrm>
              <a:off x="691560" y="843120"/>
              <a:ext cx="8055360" cy="3517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253440" y="843120"/>
              <a:ext cx="452520" cy="3535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8160" y="10080"/>
            <a:ext cx="8693280" cy="708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71640" y="1562040"/>
            <a:ext cx="8540640" cy="4121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77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100" spc="-1" strike="noStrike">
                <a:solidFill>
                  <a:srgbClr val="003366"/>
                </a:solidFill>
                <a:latin typeface="Book Antiqua"/>
              </a:rPr>
              <a:t>Click to edit the outline text format</a:t>
            </a:r>
            <a:endParaRPr b="0" lang="en-US" sz="3100" spc="-1" strike="noStrike">
              <a:solidFill>
                <a:srgbClr val="003366"/>
              </a:solidFill>
              <a:latin typeface="Book Antiqua"/>
            </a:endParaRPr>
          </a:p>
          <a:p>
            <a:pPr lvl="1" marL="824040" indent="-317520">
              <a:spcBef>
                <a:spcPts val="774"/>
              </a:spcBef>
              <a:buClr>
                <a:srgbClr val="003366"/>
              </a:buClr>
              <a:buSzPct val="75000"/>
              <a:buFont typeface="Book Antiqua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100" spc="-1" strike="noStrike">
                <a:solidFill>
                  <a:srgbClr val="003366"/>
                </a:solidFill>
                <a:latin typeface="Book Antiqua"/>
              </a:rPr>
              <a:t>Second Outline Level</a:t>
            </a:r>
            <a:endParaRPr b="0" lang="en-US" sz="3100" spc="-1" strike="noStrike">
              <a:solidFill>
                <a:srgbClr val="003366"/>
              </a:solidFill>
              <a:latin typeface="Book Antiqua"/>
            </a:endParaRPr>
          </a:p>
          <a:p>
            <a:pPr lvl="2" marL="1266840" indent="-252360">
              <a:spcBef>
                <a:spcPts val="77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100" spc="-1" strike="noStrike">
                <a:solidFill>
                  <a:srgbClr val="003366"/>
                </a:solidFill>
                <a:latin typeface="Book Antiqua"/>
              </a:rPr>
              <a:t>Third Outline Level</a:t>
            </a:r>
            <a:endParaRPr b="0" lang="en-US" sz="3100" spc="-1" strike="noStrike">
              <a:solidFill>
                <a:srgbClr val="003366"/>
              </a:solidFill>
              <a:latin typeface="Book Antiqua"/>
            </a:endParaRPr>
          </a:p>
          <a:p>
            <a:pPr lvl="3" marL="1773360" indent="-252360">
              <a:spcBef>
                <a:spcPts val="774"/>
              </a:spcBef>
              <a:buClr>
                <a:srgbClr val="003366"/>
              </a:buClr>
              <a:buSzPct val="80000"/>
              <a:buFont typeface="Book Antiqua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100" spc="-1" strike="noStrike">
                <a:solidFill>
                  <a:srgbClr val="003366"/>
                </a:solidFill>
                <a:latin typeface="Book Antiqua"/>
              </a:rPr>
              <a:t>Fourth Outline Level</a:t>
            </a:r>
            <a:endParaRPr b="0" lang="en-US" sz="3100" spc="-1" strike="noStrike">
              <a:solidFill>
                <a:srgbClr val="003366"/>
              </a:solidFill>
              <a:latin typeface="Book Antiqua"/>
            </a:endParaRPr>
          </a:p>
          <a:p>
            <a:pPr lvl="4" marL="2281320" indent="-254160">
              <a:spcBef>
                <a:spcPts val="774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100" spc="-1" strike="noStrike">
                <a:solidFill>
                  <a:srgbClr val="003366"/>
                </a:solidFill>
                <a:latin typeface="Book Antiqua"/>
              </a:rPr>
              <a:t>Fifth Outline Level</a:t>
            </a:r>
            <a:endParaRPr b="0" lang="en-US" sz="3100" spc="-1" strike="noStrike">
              <a:solidFill>
                <a:srgbClr val="003366"/>
              </a:solidFill>
              <a:latin typeface="Book Antiqua"/>
            </a:endParaRPr>
          </a:p>
          <a:p>
            <a:pPr lvl="5" marL="2281320" indent="-254160">
              <a:spcBef>
                <a:spcPts val="774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100" spc="-1" strike="noStrike">
                <a:solidFill>
                  <a:srgbClr val="003366"/>
                </a:solidFill>
                <a:latin typeface="Book Antiqua"/>
              </a:rPr>
              <a:t>Sixth Outline Level</a:t>
            </a:r>
            <a:endParaRPr b="0" lang="en-US" sz="3100" spc="-1" strike="noStrike">
              <a:solidFill>
                <a:srgbClr val="003366"/>
              </a:solidFill>
              <a:latin typeface="Book Antiqua"/>
            </a:endParaRPr>
          </a:p>
          <a:p>
            <a:pPr lvl="6" marL="2281320" indent="-254160">
              <a:spcBef>
                <a:spcPts val="774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100" spc="-1" strike="noStrike">
                <a:solidFill>
                  <a:srgbClr val="003366"/>
                </a:solidFill>
                <a:latin typeface="Book Antiqua"/>
              </a:rPr>
              <a:t>Seventh Outline Level</a:t>
            </a:r>
            <a:endParaRPr b="0" lang="en-US" sz="3100" spc="-1" strike="noStrike">
              <a:solidFill>
                <a:srgbClr val="003366"/>
              </a:solidFill>
              <a:latin typeface="Book Antiqu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2706840" y="6914880"/>
            <a:ext cx="2365200" cy="525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  <a:defRPr b="0" lang="en-US" sz="1600" spc="-1" strike="noStrike">
                <a:solidFill>
                  <a:srgbClr val="003366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Book Antiqua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6429240" y="6914880"/>
            <a:ext cx="3214800" cy="525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  <a:defRPr b="0" lang="en-US" sz="1600" spc="-1" strike="noStrike">
                <a:solidFill>
                  <a:srgbClr val="003366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Book Antiqua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93240" y="6908400"/>
            <a:ext cx="652680" cy="539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  <a:defRPr b="1" lang="en-US" sz="29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fld id="{34BCD835-13A1-4EDB-8F4D-9B7D4BE5ED6B}" type="slidenum">
              <a:rPr b="1" lang="en-US" sz="29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" descr=""/>
          <p:cNvPicPr/>
          <p:nvPr/>
        </p:nvPicPr>
        <p:blipFill>
          <a:blip r:embed="rId2"/>
          <a:stretch/>
        </p:blipFill>
        <p:spPr>
          <a:xfrm>
            <a:off x="8910720" y="0"/>
            <a:ext cx="1133280" cy="134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6513120" cy="7589520"/>
            <a:chOff x="0" y="0"/>
            <a:chExt cx="6513120" cy="75895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5075280" cy="75895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4480"/>
                  <a:tab algn="l" pos="2028960"/>
                  <a:tab algn="l" pos="3043080"/>
                  <a:tab algn="l" pos="4057560"/>
                  <a:tab algn="l" pos="5072040"/>
                  <a:tab algn="l" pos="6086520"/>
                  <a:tab algn="l" pos="7101000"/>
                  <a:tab algn="l" pos="8115480"/>
                  <a:tab algn="l" pos="9129600"/>
                  <a:tab algn="l" pos="1014408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61040" y="1096200"/>
              <a:ext cx="5752080" cy="2107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4480"/>
                  <a:tab algn="l" pos="2028960"/>
                  <a:tab algn="l" pos="3043080"/>
                  <a:tab algn="l" pos="4057560"/>
                  <a:tab algn="l" pos="5072040"/>
                  <a:tab algn="l" pos="6086520"/>
                  <a:tab algn="l" pos="7101000"/>
                  <a:tab algn="l" pos="8115480"/>
                  <a:tab algn="l" pos="9129600"/>
                  <a:tab algn="l" pos="1014408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032000" y="5411880"/>
            <a:ext cx="5413320" cy="352080"/>
            <a:chOff x="4032000" y="5411880"/>
            <a:chExt cx="5413320" cy="352080"/>
          </a:xfrm>
        </p:grpSpPr>
        <p:sp>
          <p:nvSpPr>
            <p:cNvPr id="51" name=""/>
            <p:cNvSpPr/>
            <p:nvPr/>
          </p:nvSpPr>
          <p:spPr>
            <a:xfrm flipH="1">
              <a:off x="4031640" y="5411880"/>
              <a:ext cx="5134680" cy="35064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9156600" y="5411880"/>
              <a:ext cx="288720" cy="35208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706840" y="6914880"/>
            <a:ext cx="2365200" cy="525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  <a:defRPr b="0" lang="en-US" sz="16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6429240" y="6914880"/>
            <a:ext cx="3214800" cy="525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  <a:defRPr b="0" lang="en-US" sz="1600" spc="-1" strike="noStrike">
                <a:solidFill>
                  <a:srgbClr val="003366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Book Antiqua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84240" y="6914880"/>
            <a:ext cx="652320" cy="541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  <a:defRPr b="1" lang="en-US" sz="29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fld id="{67F3C40A-755A-4694-9D95-F411263BB302}" type="slidenum">
              <a:rPr b="1" lang="en-US" sz="29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1070280" y="1405440"/>
            <a:ext cx="8517240" cy="1491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Book Antiqua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Book Antiqu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507600" y="1775520"/>
            <a:ext cx="913644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100" spc="-1" strike="noStrike">
                <a:solidFill>
                  <a:srgbClr val="006666"/>
                </a:solidFill>
                <a:latin typeface="Book Antiqua"/>
              </a:rPr>
              <a:t>Click to edit the outline text format</a:t>
            </a:r>
            <a:endParaRPr b="0" lang="en-US" sz="3100" spc="-1" strike="noStrike">
              <a:solidFill>
                <a:srgbClr val="006666"/>
              </a:solidFill>
              <a:latin typeface="Book Antiqua"/>
            </a:endParaRPr>
          </a:p>
          <a:p>
            <a:pPr lvl="1" marL="506520" indent="0" algn="ctr">
              <a:spcBef>
                <a:spcPts val="675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Book Antiqua"/>
              </a:rPr>
              <a:t>Second Outline Level</a:t>
            </a:r>
            <a:endParaRPr b="0" lang="en-US" sz="2700" spc="-1" strike="noStrike">
              <a:solidFill>
                <a:srgbClr val="003366"/>
              </a:solidFill>
              <a:latin typeface="Book Antiqua"/>
            </a:endParaRPr>
          </a:p>
          <a:p>
            <a:pPr lvl="2" marL="1014480" algn="ctr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Book Antiqua"/>
              </a:rPr>
              <a:t>Third Outline Level</a:t>
            </a:r>
            <a:endParaRPr b="0" lang="en-US" sz="2200" spc="-1" strike="noStrike">
              <a:solidFill>
                <a:srgbClr val="003366"/>
              </a:solidFill>
              <a:latin typeface="Book Antiqua"/>
            </a:endParaRPr>
          </a:p>
          <a:p>
            <a:pPr lvl="3" marL="1521000" algn="ctr">
              <a:spcBef>
                <a:spcPts val="499"/>
              </a:spcBef>
              <a:buClr>
                <a:srgbClr val="003366"/>
              </a:buClr>
              <a:buSzPct val="80000"/>
              <a:buFont typeface="Book Antiqua"/>
              <a:buChar char="–"/>
              <a:tabLst>
                <a:tab algn="l" pos="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ook Antiqu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Book Antiqua"/>
            </a:endParaRPr>
          </a:p>
          <a:p>
            <a:pPr lvl="4" marL="2027160" algn="ctr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ook Antiqu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Book Antiqua"/>
            </a:endParaRPr>
          </a:p>
          <a:p>
            <a:pPr lvl="5" marL="202716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ook Antiqu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Book Antiqua"/>
            </a:endParaRPr>
          </a:p>
          <a:p>
            <a:pPr lvl="6" marL="202716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ook Antiqu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darknessandlight.co.uk/london_pictures/fs-sep/big-ben-london-2006.jpg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29.png"/><Relationship Id="rId1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darknessandlight.co.uk/london_pictures/fs-sep/big-ben-london-2006.jpg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6.jpeg"/><Relationship Id="rId5" Type="http://schemas.openxmlformats.org/officeDocument/2006/relationships/image" Target="../media/image5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181080" y="1203480"/>
            <a:ext cx="10547280" cy="792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Book Antiqua"/>
              </a:rPr>
              <a:t>Summer Break Planning</a:t>
            </a:r>
            <a:endParaRPr b="1" lang="en-US" sz="3600" spc="-1" strike="noStrike">
              <a:solidFill>
                <a:srgbClr val="003366"/>
              </a:solidFill>
              <a:latin typeface="Book Antiqu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79280" y="2066400"/>
            <a:ext cx="9539280" cy="5763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100" spc="-1" strike="noStrike">
                <a:solidFill>
                  <a:srgbClr val="006666"/>
                </a:solidFill>
                <a:latin typeface="Book Antiqua"/>
              </a:rPr>
              <a:t>Decision Models Project Spring 2006</a:t>
            </a:r>
            <a:endParaRPr b="0" lang="en-US" sz="3100" spc="-1" strike="noStrike">
              <a:solidFill>
                <a:srgbClr val="006666"/>
              </a:solidFill>
              <a:latin typeface="Book Antiqua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4514760"/>
            <a:ext cx="2514600" cy="16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Team 17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Shehzad Ajm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Brian Angel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Michael Wol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635280" y="2930400"/>
            <a:ext cx="5832720" cy="4445280"/>
            <a:chOff x="3635280" y="2930400"/>
            <a:chExt cx="5832720" cy="4445280"/>
          </a:xfrm>
        </p:grpSpPr>
        <p:pic>
          <p:nvPicPr>
            <p:cNvPr id="98" name="" descr="big ben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3635280" y="3821040"/>
              <a:ext cx="2799000" cy="199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3"/>
            <a:stretch/>
          </p:blipFill>
          <p:spPr>
            <a:xfrm>
              <a:off x="4859280" y="2930400"/>
              <a:ext cx="2624040" cy="186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4"/>
            <a:stretch/>
          </p:blipFill>
          <p:spPr>
            <a:xfrm>
              <a:off x="6299280" y="3994200"/>
              <a:ext cx="2373120" cy="175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5"/>
            <a:stretch/>
          </p:blipFill>
          <p:spPr>
            <a:xfrm>
              <a:off x="4788000" y="5522760"/>
              <a:ext cx="2776320" cy="18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6"/>
            <a:stretch/>
          </p:blipFill>
          <p:spPr>
            <a:xfrm>
              <a:off x="7059600" y="5157720"/>
              <a:ext cx="2408400" cy="180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58C91-B720-48D9-AC9E-B2E31AAD5BD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218160" y="10080"/>
            <a:ext cx="8693280" cy="708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Book Antiqua"/>
              </a:rPr>
              <a:t>Single City Constraint</a:t>
            </a:r>
            <a:endParaRPr b="1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539640" y="1851120"/>
          <a:ext cx="9288720" cy="1969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851120"/>
                    <a:ext cx="9288720" cy="196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F235-11AD-406D-B0F5-F118CD25FFB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6680" y="102960"/>
            <a:ext cx="8796240" cy="811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Data: Train Cost &amp; Travel Time</a:t>
            </a:r>
            <a:endParaRPr b="1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961920" y="1825560"/>
          <a:ext cx="8937720" cy="446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1920" y="1825560"/>
                    <a:ext cx="893772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E4CB-DEF6-4759-B904-4EDFD6F7D12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6680" y="102960"/>
            <a:ext cx="8796240" cy="811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Data: Hotel Costs</a:t>
            </a:r>
            <a:endParaRPr b="1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971640" y="2016000"/>
          <a:ext cx="8712000" cy="1354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016000"/>
                    <a:ext cx="8712000" cy="13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867B-06A2-47CB-BC91-9A68C6E69EC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96600" cy="811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Data: Flight Penalties</a:t>
            </a:r>
            <a:endParaRPr b="1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971640" y="1274760"/>
          <a:ext cx="8496360" cy="4981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274760"/>
                    <a:ext cx="8496360" cy="498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971640" y="6407280"/>
          <a:ext cx="7777080" cy="1023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1640" y="6407280"/>
                    <a:ext cx="7777080" cy="10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7AC7-6C21-4567-8ADD-56F7408A365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6680" y="102960"/>
            <a:ext cx="8796240" cy="811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Data: Train Penalties</a:t>
            </a:r>
            <a:endParaRPr b="1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466560" y="1490760"/>
          <a:ext cx="9217080" cy="5186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490760"/>
                    <a:ext cx="9217080" cy="51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A9AB-62FC-46F0-8FF2-222FF1B8E3C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66680" y="103320"/>
            <a:ext cx="879624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Train / Plane Choice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625320" y="1933560"/>
          <a:ext cx="9345600" cy="214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1933560"/>
                    <a:ext cx="9345600" cy="21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A8D7-BD3B-4BFA-82FE-96BA0E06895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277920" y="1706400"/>
          <a:ext cx="9693000" cy="289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920" y="1706400"/>
                    <a:ext cx="9693000" cy="28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66680" y="102960"/>
            <a:ext cx="8796240" cy="811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Data: Hotel Penalties</a:t>
            </a:r>
            <a:endParaRPr b="1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C8C7-3AE2-4619-8F1F-83A04B4221D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216000" y="1566720"/>
          <a:ext cx="9828000" cy="3956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000" y="1566720"/>
                    <a:ext cx="9828000" cy="39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6680" y="102960"/>
            <a:ext cx="8796240" cy="811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Data: Day Penalties</a:t>
            </a:r>
            <a:endParaRPr b="1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C2CC-FC7E-413D-B292-D8A3AD976AE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166680" y="2027160"/>
          <a:ext cx="9345600" cy="158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680" y="2027160"/>
                    <a:ext cx="9345600" cy="15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166680" y="103320"/>
            <a:ext cx="879624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Objective Function: Minimize Cost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2CB2-46C8-4378-858C-7C4D54BCAF6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043000" y="2643120"/>
            <a:ext cx="6704280" cy="405468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39760" y="102960"/>
            <a:ext cx="8796240" cy="811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Book Antiqua"/>
              </a:rPr>
              <a:t>Solver</a:t>
            </a:r>
            <a:endParaRPr b="1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8" name=""/>
          <p:cNvSpPr/>
          <p:nvPr/>
        </p:nvSpPr>
        <p:spPr>
          <a:xfrm>
            <a:off x="4491000" y="914400"/>
            <a:ext cx="3602160" cy="934920"/>
          </a:xfrm>
          <a:prstGeom prst="wedgeRoundRectCallout">
            <a:avLst>
              <a:gd name="adj1" fmla="val 56041"/>
              <a:gd name="adj2" fmla="val 201018"/>
              <a:gd name="adj3" fmla="val 16667"/>
            </a:avLst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SOLVE IT !!!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652B-2103-4AF6-88E2-D49EF5B2721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218160" y="10080"/>
            <a:ext cx="8693280" cy="708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Book Antiqua"/>
              </a:rPr>
              <a:t>Presentation Outline</a:t>
            </a:r>
            <a:r>
              <a:rPr b="1" lang="en-US" sz="30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1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971640" y="1562040"/>
            <a:ext cx="8540640" cy="4121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77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100" spc="-1" strike="noStrike">
                <a:solidFill>
                  <a:srgbClr val="003366"/>
                </a:solidFill>
                <a:latin typeface="Book Antiqua"/>
              </a:rPr>
              <a:t>Managerial Problem Definition</a:t>
            </a:r>
            <a:endParaRPr b="0" lang="en-US" sz="3100" spc="-1" strike="noStrike">
              <a:solidFill>
                <a:srgbClr val="003366"/>
              </a:solidFill>
              <a:latin typeface="Book Antiqua"/>
            </a:endParaRPr>
          </a:p>
          <a:p>
            <a:pPr marL="379440" indent="-379440">
              <a:spcBef>
                <a:spcPts val="77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100" spc="-1" strike="noStrike">
                <a:solidFill>
                  <a:srgbClr val="003366"/>
                </a:solidFill>
                <a:latin typeface="Book Antiqua"/>
              </a:rPr>
              <a:t>Our Model</a:t>
            </a:r>
            <a:endParaRPr b="0" lang="en-US" sz="3100" spc="-1" strike="noStrike">
              <a:solidFill>
                <a:srgbClr val="003366"/>
              </a:solidFill>
              <a:latin typeface="Book Antiqua"/>
            </a:endParaRPr>
          </a:p>
          <a:p>
            <a:pPr marL="379440" indent="-379440">
              <a:spcBef>
                <a:spcPts val="77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100" spc="-1" strike="noStrike">
                <a:solidFill>
                  <a:srgbClr val="003366"/>
                </a:solidFill>
                <a:latin typeface="Book Antiqua"/>
              </a:rPr>
              <a:t>Problems and Conclusions</a:t>
            </a:r>
            <a:endParaRPr b="0" lang="en-US" sz="3100" spc="-1" strike="noStrike">
              <a:solidFill>
                <a:srgbClr val="00336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CE78-BB3C-4265-9F06-47B3D1D2BCD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218160" y="29160"/>
            <a:ext cx="8693280" cy="708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Book Antiqua"/>
              </a:rPr>
              <a:t>Problem 1: “Problem too Large for Solver”</a:t>
            </a:r>
            <a:endParaRPr b="1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898560" y="2354040"/>
            <a:ext cx="4194000" cy="4120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Book Antiqua"/>
              </a:rPr>
              <a:t>Frontline offers premium solvers that can handle unlimited decision variables and constraints</a:t>
            </a:r>
            <a:endParaRPr b="0" lang="en-US" sz="2700" spc="-1" strike="noStrike">
              <a:solidFill>
                <a:srgbClr val="003366"/>
              </a:solidFill>
              <a:latin typeface="Book Antiqua"/>
            </a:endParaRPr>
          </a:p>
          <a:p>
            <a:pPr marL="379440" indent="-379440"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Book Antiqua"/>
              </a:rPr>
              <a:t>For a fee (we downloaded the 15 day trial version)</a:t>
            </a:r>
            <a:endParaRPr b="0" lang="en-US" sz="2700" spc="-1" strike="noStrike">
              <a:solidFill>
                <a:srgbClr val="003366"/>
              </a:solidFill>
              <a:latin typeface="Book Antiqu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5075280" y="1927080"/>
            <a:ext cx="4832280" cy="474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7667-0BDF-4DCA-9DFB-515C2086FB1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rcRect l="805" t="30565" r="14950" b="0"/>
          <a:stretch/>
        </p:blipFill>
        <p:spPr>
          <a:xfrm>
            <a:off x="1546200" y="1353960"/>
            <a:ext cx="7489800" cy="61851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280" y="239400"/>
            <a:ext cx="773928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Book Antiqua"/>
              </a:rPr>
              <a:t>Problem 2: Sub-Tours</a:t>
            </a:r>
            <a:endParaRPr b="1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4" name=""/>
          <p:cNvSpPr/>
          <p:nvPr/>
        </p:nvSpPr>
        <p:spPr>
          <a:xfrm>
            <a:off x="6445080" y="2138400"/>
            <a:ext cx="79092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ou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067280" y="5667480"/>
            <a:ext cx="144360" cy="144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26920" y="5019840"/>
            <a:ext cx="3311640" cy="718920"/>
          </a:xfrm>
          <a:custGeom>
            <a:avLst/>
            <a:gdLst/>
            <a:ahLst/>
            <a:rect l="l" t="t" r="r" b="b"/>
            <a:pathLst>
              <a:path w="2086" h="453">
                <a:moveTo>
                  <a:pt x="0" y="0"/>
                </a:moveTo>
                <a:cubicBezTo>
                  <a:pt x="393" y="7"/>
                  <a:pt x="786" y="15"/>
                  <a:pt x="1134" y="90"/>
                </a:cubicBezTo>
                <a:cubicBezTo>
                  <a:pt x="1482" y="165"/>
                  <a:pt x="1784" y="309"/>
                  <a:pt x="2086" y="453"/>
                </a:cubicBezTo>
              </a:path>
            </a:pathLst>
          </a:custGeom>
          <a:noFill/>
          <a:ln w="4140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562200" y="6243480"/>
            <a:ext cx="1081080" cy="287640"/>
          </a:xfrm>
          <a:prstGeom prst="wedgeRectCallout">
            <a:avLst>
              <a:gd name="adj1" fmla="val 2569"/>
              <a:gd name="adj2" fmla="val -21132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  <a:ea typeface="Arial"/>
              </a:rPr>
              <a:t>Barcelona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67280" y="5738760"/>
            <a:ext cx="144720" cy="144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362560" y="4803840"/>
            <a:ext cx="144360" cy="144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10200" y="4154400"/>
            <a:ext cx="144360" cy="144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762200" y="5811840"/>
            <a:ext cx="144360" cy="144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3280" y="5738760"/>
            <a:ext cx="144360" cy="144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859280" y="3219480"/>
            <a:ext cx="144360" cy="144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643280" y="3506760"/>
            <a:ext cx="144720" cy="144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995640" y="3290760"/>
            <a:ext cx="144720" cy="144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083280" y="6170760"/>
            <a:ext cx="1081080" cy="287280"/>
          </a:xfrm>
          <a:prstGeom prst="wedgeRectCallout">
            <a:avLst>
              <a:gd name="adj1" fmla="val -63800"/>
              <a:gd name="adj2" fmla="val -180939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  <a:ea typeface="Arial"/>
              </a:rPr>
              <a:t>Rom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435640" y="4227480"/>
            <a:ext cx="1081080" cy="287280"/>
          </a:xfrm>
          <a:prstGeom prst="wedgeRectCallout">
            <a:avLst>
              <a:gd name="adj1" fmla="val -46768"/>
              <a:gd name="adj2" fmla="val 173754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  <a:ea typeface="Arial"/>
              </a:rPr>
              <a:t>Mil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922560" y="4586400"/>
            <a:ext cx="1081080" cy="287280"/>
          </a:xfrm>
          <a:prstGeom prst="wedgeRectCallout">
            <a:avLst>
              <a:gd name="adj1" fmla="val -17546"/>
              <a:gd name="adj2" fmla="val -16381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  <a:ea typeface="Arial"/>
              </a:rPr>
              <a:t>Pari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98560" y="5307120"/>
            <a:ext cx="1081080" cy="287280"/>
          </a:xfrm>
          <a:prstGeom prst="wedgeRectCallout">
            <a:avLst>
              <a:gd name="adj1" fmla="val 36782"/>
              <a:gd name="adj2" fmla="val 14723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  <a:ea typeface="Arial"/>
              </a:rPr>
              <a:t>Lisbo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979640" y="6315120"/>
            <a:ext cx="1081080" cy="287280"/>
          </a:xfrm>
          <a:prstGeom prst="wedgeRectCallout">
            <a:avLst>
              <a:gd name="adj1" fmla="val 34287"/>
              <a:gd name="adj2" fmla="val -21906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  <a:ea typeface="Arial"/>
              </a:rPr>
              <a:t>Madrid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714920" y="2714760"/>
            <a:ext cx="1297080" cy="287280"/>
          </a:xfrm>
          <a:prstGeom prst="wedgeRectCallout">
            <a:avLst>
              <a:gd name="adj1" fmla="val -30907"/>
              <a:gd name="adj2" fmla="val 13508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  <a:ea typeface="Arial"/>
              </a:rPr>
              <a:t>Amsterda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851280" y="3651120"/>
            <a:ext cx="1081080" cy="287640"/>
          </a:xfrm>
          <a:prstGeom prst="wedgeRectCallout">
            <a:avLst>
              <a:gd name="adj1" fmla="val 33111"/>
              <a:gd name="adj2" fmla="val -8701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  <a:ea typeface="Arial"/>
              </a:rPr>
              <a:t>Brussel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2200" y="2570040"/>
            <a:ext cx="1081080" cy="287640"/>
          </a:xfrm>
          <a:prstGeom prst="wedgeRectCallout">
            <a:avLst>
              <a:gd name="adj1" fmla="val -6092"/>
              <a:gd name="adj2" fmla="val 21463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  <a:ea typeface="Arial"/>
              </a:rPr>
              <a:t>Londo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408480" y="3362400"/>
            <a:ext cx="730080" cy="2376360"/>
          </a:xfrm>
          <a:custGeom>
            <a:avLst/>
            <a:gdLst/>
            <a:ahLst/>
            <a:rect l="l" t="t" r="r" b="b"/>
            <a:pathLst>
              <a:path w="460" h="1497">
                <a:moveTo>
                  <a:pt x="460" y="1497"/>
                </a:moveTo>
                <a:cubicBezTo>
                  <a:pt x="237" y="1213"/>
                  <a:pt x="14" y="930"/>
                  <a:pt x="7" y="681"/>
                </a:cubicBezTo>
                <a:cubicBezTo>
                  <a:pt x="0" y="432"/>
                  <a:pt x="207" y="216"/>
                  <a:pt x="415" y="0"/>
                </a:cubicBezTo>
              </a:path>
            </a:pathLst>
          </a:custGeom>
          <a:noFill/>
          <a:ln w="4140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67280" y="3219480"/>
            <a:ext cx="647640" cy="324000"/>
          </a:xfrm>
          <a:custGeom>
            <a:avLst/>
            <a:gdLst/>
            <a:ahLst/>
            <a:rect l="l" t="t" r="r" b="b"/>
            <a:pathLst>
              <a:path w="408" h="204">
                <a:moveTo>
                  <a:pt x="0" y="68"/>
                </a:moveTo>
                <a:cubicBezTo>
                  <a:pt x="79" y="34"/>
                  <a:pt x="159" y="0"/>
                  <a:pt x="227" y="23"/>
                </a:cubicBezTo>
                <a:cubicBezTo>
                  <a:pt x="295" y="46"/>
                  <a:pt x="351" y="125"/>
                  <a:pt x="408" y="204"/>
                </a:cubicBezTo>
              </a:path>
            </a:pathLst>
          </a:custGeom>
          <a:noFill/>
          <a:ln w="4140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619520" y="3243240"/>
            <a:ext cx="239760" cy="335160"/>
          </a:xfrm>
          <a:custGeom>
            <a:avLst/>
            <a:gdLst/>
            <a:ahLst/>
            <a:rect l="l" t="t" r="r" b="b"/>
            <a:pathLst>
              <a:path w="151" h="211">
                <a:moveTo>
                  <a:pt x="60" y="211"/>
                </a:moveTo>
                <a:cubicBezTo>
                  <a:pt x="30" y="135"/>
                  <a:pt x="0" y="60"/>
                  <a:pt x="15" y="30"/>
                </a:cubicBezTo>
                <a:cubicBezTo>
                  <a:pt x="30" y="0"/>
                  <a:pt x="90" y="15"/>
                  <a:pt x="151" y="30"/>
                </a:cubicBezTo>
              </a:path>
            </a:pathLst>
          </a:custGeom>
          <a:noFill/>
          <a:ln w="4140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793960" y="3290760"/>
            <a:ext cx="2136960" cy="2521080"/>
          </a:xfrm>
          <a:custGeom>
            <a:avLst/>
            <a:gdLst/>
            <a:ahLst/>
            <a:rect l="l" t="t" r="r" b="b"/>
            <a:pathLst>
              <a:path w="1346" h="1588">
                <a:moveTo>
                  <a:pt x="1346" y="0"/>
                </a:moveTo>
                <a:cubicBezTo>
                  <a:pt x="885" y="26"/>
                  <a:pt x="424" y="53"/>
                  <a:pt x="212" y="318"/>
                </a:cubicBezTo>
                <a:cubicBezTo>
                  <a:pt x="0" y="583"/>
                  <a:pt x="38" y="1085"/>
                  <a:pt x="76" y="1588"/>
                </a:cubicBezTo>
              </a:path>
            </a:pathLst>
          </a:custGeom>
          <a:noFill/>
          <a:ln w="4140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835280" y="5511960"/>
            <a:ext cx="1079280" cy="371160"/>
          </a:xfrm>
          <a:custGeom>
            <a:avLst/>
            <a:gdLst/>
            <a:ahLst/>
            <a:rect l="l" t="t" r="r" b="b"/>
            <a:pathLst>
              <a:path w="680" h="234">
                <a:moveTo>
                  <a:pt x="680" y="189"/>
                </a:moveTo>
                <a:cubicBezTo>
                  <a:pt x="555" y="94"/>
                  <a:pt x="430" y="0"/>
                  <a:pt x="317" y="7"/>
                </a:cubicBezTo>
                <a:cubicBezTo>
                  <a:pt x="204" y="14"/>
                  <a:pt x="102" y="124"/>
                  <a:pt x="0" y="234"/>
                </a:cubicBezTo>
              </a:path>
            </a:pathLst>
          </a:custGeom>
          <a:noFill/>
          <a:ln w="4140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835280" y="4167360"/>
            <a:ext cx="2447640" cy="1715760"/>
          </a:xfrm>
          <a:custGeom>
            <a:avLst/>
            <a:gdLst/>
            <a:ahLst/>
            <a:rect l="l" t="t" r="r" b="b"/>
            <a:pathLst>
              <a:path w="1542" h="1081">
                <a:moveTo>
                  <a:pt x="0" y="1081"/>
                </a:moveTo>
                <a:cubicBezTo>
                  <a:pt x="234" y="714"/>
                  <a:pt x="469" y="348"/>
                  <a:pt x="726" y="174"/>
                </a:cubicBezTo>
                <a:cubicBezTo>
                  <a:pt x="983" y="0"/>
                  <a:pt x="1262" y="19"/>
                  <a:pt x="1542" y="38"/>
                </a:cubicBezTo>
              </a:path>
            </a:pathLst>
          </a:custGeom>
          <a:noFill/>
          <a:ln w="4140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26920" y="3890880"/>
            <a:ext cx="3456000" cy="336600"/>
          </a:xfrm>
          <a:custGeom>
            <a:avLst/>
            <a:gdLst/>
            <a:ahLst/>
            <a:rect l="l" t="t" r="r" b="b"/>
            <a:pathLst>
              <a:path w="2177" h="212">
                <a:moveTo>
                  <a:pt x="2177" y="212"/>
                </a:moveTo>
                <a:cubicBezTo>
                  <a:pt x="1610" y="136"/>
                  <a:pt x="1043" y="60"/>
                  <a:pt x="680" y="30"/>
                </a:cubicBezTo>
                <a:cubicBezTo>
                  <a:pt x="317" y="0"/>
                  <a:pt x="158" y="15"/>
                  <a:pt x="0" y="30"/>
                </a:cubicBezTo>
              </a:path>
            </a:pathLst>
          </a:custGeom>
          <a:noFill/>
          <a:ln w="4140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51400" y="4875120"/>
            <a:ext cx="587520" cy="936720"/>
          </a:xfrm>
          <a:custGeom>
            <a:avLst/>
            <a:gdLst/>
            <a:ahLst/>
            <a:rect l="l" t="t" r="r" b="b"/>
            <a:pathLst>
              <a:path w="370" h="590">
                <a:moveTo>
                  <a:pt x="53" y="0"/>
                </a:moveTo>
                <a:cubicBezTo>
                  <a:pt x="26" y="132"/>
                  <a:pt x="0" y="265"/>
                  <a:pt x="53" y="363"/>
                </a:cubicBezTo>
                <a:cubicBezTo>
                  <a:pt x="106" y="461"/>
                  <a:pt x="238" y="525"/>
                  <a:pt x="370" y="590"/>
                </a:cubicBezTo>
              </a:path>
            </a:pathLst>
          </a:custGeom>
          <a:noFill/>
          <a:ln w="4140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rot="10800000">
            <a:off x="5435280" y="4875120"/>
            <a:ext cx="587160" cy="936720"/>
          </a:xfrm>
          <a:custGeom>
            <a:avLst/>
            <a:gdLst/>
            <a:ahLst/>
            <a:rect l="l" t="t" r="r" b="b"/>
            <a:pathLst>
              <a:path w="370" h="590">
                <a:moveTo>
                  <a:pt x="53" y="0"/>
                </a:moveTo>
                <a:cubicBezTo>
                  <a:pt x="26" y="132"/>
                  <a:pt x="0" y="265"/>
                  <a:pt x="53" y="363"/>
                </a:cubicBezTo>
                <a:cubicBezTo>
                  <a:pt x="106" y="461"/>
                  <a:pt x="238" y="525"/>
                  <a:pt x="370" y="590"/>
                </a:cubicBezTo>
              </a:path>
            </a:pathLst>
          </a:custGeom>
          <a:noFill/>
          <a:ln w="4140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EE50-F476-4874-B7ED-7E84596AE56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218160" y="10080"/>
            <a:ext cx="8693280" cy="708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Book Antiqua"/>
              </a:rPr>
              <a:t>Resolving Sub-Tours: Be Smarter than Solver</a:t>
            </a:r>
            <a:endParaRPr b="1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971640" y="1561680"/>
            <a:ext cx="8928000" cy="15843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Book Antiqua"/>
              </a:rPr>
              <a:t>In order to solve sub-tours add a constraint that doesn’t allow solver to take that trip.</a:t>
            </a:r>
            <a:endParaRPr b="0" lang="en-US" sz="2700" spc="-1" strike="noStrike">
              <a:solidFill>
                <a:srgbClr val="003366"/>
              </a:solidFill>
              <a:latin typeface="Book Antiqua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114560" y="3468600"/>
          <a:ext cx="8856360" cy="3111480"/>
        </p:xfrm>
        <a:graphic>
          <a:graphicData uri="http://schemas.openxmlformats.org/drawingml/2006/table">
            <a:tbl>
              <a:tblPr/>
              <a:tblGrid>
                <a:gridCol w="6913440"/>
                <a:gridCol w="1942920"/>
              </a:tblGrid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en-US" sz="2700" spc="-1" strike="noStrike">
                          <a:solidFill>
                            <a:srgbClr val="003366"/>
                          </a:solidFill>
                          <a:latin typeface="Book Antiqua"/>
                          <a:ea typeface="Arial"/>
                        </a:rPr>
                        <a:t>Sub –Tour</a:t>
                      </a:r>
                      <a:endParaRPr b="0" lang="en-US" sz="2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27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2700" spc="-1" strike="noStrike">
                          <a:solidFill>
                            <a:srgbClr val="003366"/>
                          </a:solidFill>
                          <a:latin typeface="Book Antiqua"/>
                          <a:ea typeface="Arial"/>
                        </a:rPr>
                        <a:t>Rome     Milan</a:t>
                      </a:r>
                      <a:endParaRPr b="0" lang="en-US" sz="2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328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2700" spc="-1" strike="noStrike">
                          <a:solidFill>
                            <a:srgbClr val="003366"/>
                          </a:solidFill>
                          <a:latin typeface="Book Antiqua"/>
                          <a:ea typeface="Arial"/>
                        </a:rPr>
                        <a:t>NYC     Barcelona     London     Brussels     Amsterdam     Madrid     Lisbon     Paris     NYC</a:t>
                      </a:r>
                      <a:endParaRPr b="0" lang="en-US" sz="2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6" name=""/>
          <p:cNvSpPr/>
          <p:nvPr/>
        </p:nvSpPr>
        <p:spPr>
          <a:xfrm>
            <a:off x="4354560" y="4443480"/>
            <a:ext cx="360360" cy="287280"/>
          </a:xfrm>
          <a:prstGeom prst="rightArrow">
            <a:avLst>
              <a:gd name="adj1" fmla="val 40333"/>
              <a:gd name="adj2" fmla="val 61337"/>
            </a:avLst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411280" y="5378400"/>
            <a:ext cx="360360" cy="287280"/>
          </a:xfrm>
          <a:prstGeom prst="rightArrow">
            <a:avLst>
              <a:gd name="adj1" fmla="val 40333"/>
              <a:gd name="adj2" fmla="val 61337"/>
            </a:avLst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282920" y="5380200"/>
            <a:ext cx="360360" cy="287280"/>
          </a:xfrm>
          <a:prstGeom prst="rightArrow">
            <a:avLst>
              <a:gd name="adj1" fmla="val 40333"/>
              <a:gd name="adj2" fmla="val 61337"/>
            </a:avLst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938920" y="5380200"/>
            <a:ext cx="360360" cy="287280"/>
          </a:xfrm>
          <a:prstGeom prst="rightArrow">
            <a:avLst>
              <a:gd name="adj1" fmla="val 40333"/>
              <a:gd name="adj2" fmla="val 61337"/>
            </a:avLst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594560" y="5378400"/>
            <a:ext cx="360360" cy="287280"/>
          </a:xfrm>
          <a:prstGeom prst="rightArrow">
            <a:avLst>
              <a:gd name="adj1" fmla="val 40333"/>
              <a:gd name="adj2" fmla="val 61337"/>
            </a:avLst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419640" y="5738760"/>
            <a:ext cx="360360" cy="287280"/>
          </a:xfrm>
          <a:prstGeom prst="rightArrow">
            <a:avLst>
              <a:gd name="adj1" fmla="val 40333"/>
              <a:gd name="adj2" fmla="val 61337"/>
            </a:avLst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02200" y="5740560"/>
            <a:ext cx="360360" cy="287280"/>
          </a:xfrm>
          <a:prstGeom prst="rightArrow">
            <a:avLst>
              <a:gd name="adj1" fmla="val 40333"/>
              <a:gd name="adj2" fmla="val 61337"/>
            </a:avLst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443640" y="5738760"/>
            <a:ext cx="360360" cy="287280"/>
          </a:xfrm>
          <a:prstGeom prst="rightArrow">
            <a:avLst>
              <a:gd name="adj1" fmla="val 40333"/>
              <a:gd name="adj2" fmla="val 61337"/>
            </a:avLst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594560" y="5738760"/>
            <a:ext cx="360360" cy="287280"/>
          </a:xfrm>
          <a:prstGeom prst="rightArrow">
            <a:avLst>
              <a:gd name="adj1" fmla="val 40333"/>
              <a:gd name="adj2" fmla="val 61337"/>
            </a:avLst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531280" y="4083120"/>
            <a:ext cx="79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800000"/>
                </a:solidFill>
                <a:latin typeface="Book Antiqua"/>
                <a:ea typeface="Arial"/>
              </a:rPr>
              <a:t>X</a:t>
            </a:r>
            <a:endParaRPr b="0" lang="en-US" sz="6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531280" y="5432400"/>
            <a:ext cx="79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800000"/>
                </a:solidFill>
                <a:latin typeface="Book Antiqua"/>
                <a:ea typeface="Arial"/>
              </a:rPr>
              <a:t>X</a:t>
            </a:r>
            <a:endParaRPr b="0" lang="en-US" sz="6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1A11-3917-4117-8F58-E25D559824E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218160" y="10080"/>
            <a:ext cx="8693280" cy="708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Book Antiqua"/>
              </a:rPr>
              <a:t>The Final Trip</a:t>
            </a:r>
            <a:endParaRPr b="1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8" name=""/>
          <p:cNvSpPr/>
          <p:nvPr/>
        </p:nvSpPr>
        <p:spPr>
          <a:xfrm>
            <a:off x="6445080" y="2138400"/>
            <a:ext cx="79092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ou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812000" y="2427120"/>
            <a:ext cx="79236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okyo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rcRect l="805" t="30565" r="14950" b="0"/>
          <a:stretch/>
        </p:blipFill>
        <p:spPr>
          <a:xfrm>
            <a:off x="1546200" y="1353960"/>
            <a:ext cx="7489800" cy="61851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4067280" y="5667480"/>
            <a:ext cx="144360" cy="144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826920" y="5019840"/>
            <a:ext cx="3311640" cy="718920"/>
          </a:xfrm>
          <a:custGeom>
            <a:avLst/>
            <a:gdLst/>
            <a:ahLst/>
            <a:rect l="l" t="t" r="r" b="b"/>
            <a:pathLst>
              <a:path w="2086" h="453">
                <a:moveTo>
                  <a:pt x="0" y="0"/>
                </a:moveTo>
                <a:cubicBezTo>
                  <a:pt x="393" y="7"/>
                  <a:pt x="786" y="15"/>
                  <a:pt x="1134" y="90"/>
                </a:cubicBezTo>
                <a:cubicBezTo>
                  <a:pt x="1482" y="165"/>
                  <a:pt x="1784" y="309"/>
                  <a:pt x="2086" y="453"/>
                </a:cubicBezTo>
              </a:path>
            </a:pathLst>
          </a:custGeom>
          <a:noFill/>
          <a:ln w="4140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62200" y="6243480"/>
            <a:ext cx="1081080" cy="287640"/>
          </a:xfrm>
          <a:prstGeom prst="wedgeRectCallout">
            <a:avLst>
              <a:gd name="adj1" fmla="val 2569"/>
              <a:gd name="adj2" fmla="val -21132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  <a:ea typeface="Arial"/>
              </a:rPr>
              <a:t>Barcelona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867280" y="5738760"/>
            <a:ext cx="144720" cy="144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362560" y="4803840"/>
            <a:ext cx="144360" cy="144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210200" y="4154400"/>
            <a:ext cx="144360" cy="144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762200" y="5811840"/>
            <a:ext cx="144360" cy="144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843280" y="5738760"/>
            <a:ext cx="144360" cy="144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859280" y="3219480"/>
            <a:ext cx="144360" cy="144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643280" y="3506760"/>
            <a:ext cx="144720" cy="144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995640" y="3290760"/>
            <a:ext cx="144720" cy="144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083280" y="6170760"/>
            <a:ext cx="1081080" cy="287280"/>
          </a:xfrm>
          <a:prstGeom prst="wedgeRectCallout">
            <a:avLst>
              <a:gd name="adj1" fmla="val -63800"/>
              <a:gd name="adj2" fmla="val -18093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  <a:ea typeface="Arial"/>
              </a:rPr>
              <a:t>Rom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138560" y="5162400"/>
            <a:ext cx="1081080" cy="287640"/>
          </a:xfrm>
          <a:prstGeom prst="wedgeRectCallout">
            <a:avLst>
              <a:gd name="adj1" fmla="val 62921"/>
              <a:gd name="adj2" fmla="val -14447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  <a:ea typeface="Arial"/>
              </a:rPr>
              <a:t>Mil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922560" y="4586400"/>
            <a:ext cx="1081080" cy="287280"/>
          </a:xfrm>
          <a:prstGeom prst="wedgeRectCallout">
            <a:avLst>
              <a:gd name="adj1" fmla="val -17546"/>
              <a:gd name="adj2" fmla="val -16381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  <a:ea typeface="Arial"/>
              </a:rPr>
              <a:t>Pari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98560" y="5307120"/>
            <a:ext cx="1081080" cy="287280"/>
          </a:xfrm>
          <a:prstGeom prst="wedgeRectCallout">
            <a:avLst>
              <a:gd name="adj1" fmla="val 36782"/>
              <a:gd name="adj2" fmla="val 14723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  <a:ea typeface="Arial"/>
              </a:rPr>
              <a:t>Lisbo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979640" y="6315120"/>
            <a:ext cx="1081080" cy="287280"/>
          </a:xfrm>
          <a:prstGeom prst="wedgeRectCallout">
            <a:avLst>
              <a:gd name="adj1" fmla="val 34287"/>
              <a:gd name="adj2" fmla="val -21906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  <a:ea typeface="Arial"/>
              </a:rPr>
              <a:t>Madrid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714920" y="2714760"/>
            <a:ext cx="1297080" cy="287280"/>
          </a:xfrm>
          <a:prstGeom prst="wedgeRectCallout">
            <a:avLst>
              <a:gd name="adj1" fmla="val -30907"/>
              <a:gd name="adj2" fmla="val 13508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  <a:ea typeface="Arial"/>
              </a:rPr>
              <a:t>Amsterda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291280" y="3290760"/>
            <a:ext cx="1081080" cy="287640"/>
          </a:xfrm>
          <a:prstGeom prst="wedgeRectCallout">
            <a:avLst>
              <a:gd name="adj1" fmla="val -100365"/>
              <a:gd name="adj2" fmla="val 3729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  <a:ea typeface="Arial"/>
              </a:rPr>
              <a:t>Brussel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562200" y="2570040"/>
            <a:ext cx="1081080" cy="287640"/>
          </a:xfrm>
          <a:prstGeom prst="wedgeRectCallout">
            <a:avLst>
              <a:gd name="adj1" fmla="val -6092"/>
              <a:gd name="adj2" fmla="val 21463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  <a:ea typeface="Arial"/>
              </a:rPr>
              <a:t>Londo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408480" y="3362400"/>
            <a:ext cx="730080" cy="2376360"/>
          </a:xfrm>
          <a:custGeom>
            <a:avLst/>
            <a:gdLst/>
            <a:ahLst/>
            <a:rect l="l" t="t" r="r" b="b"/>
            <a:pathLst>
              <a:path w="460" h="1497">
                <a:moveTo>
                  <a:pt x="460" y="1497"/>
                </a:moveTo>
                <a:cubicBezTo>
                  <a:pt x="237" y="1213"/>
                  <a:pt x="14" y="930"/>
                  <a:pt x="7" y="681"/>
                </a:cubicBezTo>
                <a:cubicBezTo>
                  <a:pt x="0" y="432"/>
                  <a:pt x="207" y="216"/>
                  <a:pt x="415" y="0"/>
                </a:cubicBezTo>
              </a:path>
            </a:pathLst>
          </a:custGeom>
          <a:noFill/>
          <a:ln w="4140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619520" y="3243240"/>
            <a:ext cx="239760" cy="335160"/>
          </a:xfrm>
          <a:custGeom>
            <a:avLst/>
            <a:gdLst/>
            <a:ahLst/>
            <a:rect l="l" t="t" r="r" b="b"/>
            <a:pathLst>
              <a:path w="151" h="211">
                <a:moveTo>
                  <a:pt x="60" y="211"/>
                </a:moveTo>
                <a:cubicBezTo>
                  <a:pt x="30" y="135"/>
                  <a:pt x="0" y="60"/>
                  <a:pt x="15" y="30"/>
                </a:cubicBezTo>
                <a:cubicBezTo>
                  <a:pt x="30" y="0"/>
                  <a:pt x="90" y="15"/>
                  <a:pt x="151" y="30"/>
                </a:cubicBezTo>
              </a:path>
            </a:pathLst>
          </a:custGeom>
          <a:noFill/>
          <a:ln w="4140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793960" y="3290760"/>
            <a:ext cx="2136960" cy="2521080"/>
          </a:xfrm>
          <a:custGeom>
            <a:avLst/>
            <a:gdLst/>
            <a:ahLst/>
            <a:rect l="l" t="t" r="r" b="b"/>
            <a:pathLst>
              <a:path w="1346" h="1588">
                <a:moveTo>
                  <a:pt x="1346" y="0"/>
                </a:moveTo>
                <a:cubicBezTo>
                  <a:pt x="885" y="26"/>
                  <a:pt x="424" y="53"/>
                  <a:pt x="212" y="318"/>
                </a:cubicBezTo>
                <a:cubicBezTo>
                  <a:pt x="0" y="583"/>
                  <a:pt x="38" y="1085"/>
                  <a:pt x="76" y="1588"/>
                </a:cubicBezTo>
              </a:path>
            </a:pathLst>
          </a:custGeom>
          <a:noFill/>
          <a:ln w="4140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835280" y="5511960"/>
            <a:ext cx="1079280" cy="371160"/>
          </a:xfrm>
          <a:custGeom>
            <a:avLst/>
            <a:gdLst/>
            <a:ahLst/>
            <a:rect l="l" t="t" r="r" b="b"/>
            <a:pathLst>
              <a:path w="680" h="234">
                <a:moveTo>
                  <a:pt x="680" y="189"/>
                </a:moveTo>
                <a:cubicBezTo>
                  <a:pt x="555" y="94"/>
                  <a:pt x="430" y="0"/>
                  <a:pt x="317" y="7"/>
                </a:cubicBezTo>
                <a:cubicBezTo>
                  <a:pt x="204" y="14"/>
                  <a:pt x="102" y="124"/>
                  <a:pt x="0" y="234"/>
                </a:cubicBezTo>
              </a:path>
            </a:pathLst>
          </a:custGeom>
          <a:noFill/>
          <a:ln w="4140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835280" y="4167360"/>
            <a:ext cx="2447640" cy="1715760"/>
          </a:xfrm>
          <a:custGeom>
            <a:avLst/>
            <a:gdLst/>
            <a:ahLst/>
            <a:rect l="l" t="t" r="r" b="b"/>
            <a:pathLst>
              <a:path w="1542" h="1081">
                <a:moveTo>
                  <a:pt x="0" y="1081"/>
                </a:moveTo>
                <a:cubicBezTo>
                  <a:pt x="234" y="714"/>
                  <a:pt x="469" y="348"/>
                  <a:pt x="726" y="174"/>
                </a:cubicBezTo>
                <a:cubicBezTo>
                  <a:pt x="983" y="0"/>
                  <a:pt x="1262" y="19"/>
                  <a:pt x="1542" y="38"/>
                </a:cubicBezTo>
              </a:path>
            </a:pathLst>
          </a:custGeom>
          <a:noFill/>
          <a:ln w="4140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826920" y="3890880"/>
            <a:ext cx="3456000" cy="336600"/>
          </a:xfrm>
          <a:custGeom>
            <a:avLst/>
            <a:gdLst/>
            <a:ahLst/>
            <a:rect l="l" t="t" r="r" b="b"/>
            <a:pathLst>
              <a:path w="2177" h="212">
                <a:moveTo>
                  <a:pt x="2177" y="212"/>
                </a:moveTo>
                <a:cubicBezTo>
                  <a:pt x="1610" y="136"/>
                  <a:pt x="1043" y="60"/>
                  <a:pt x="680" y="30"/>
                </a:cubicBezTo>
                <a:cubicBezTo>
                  <a:pt x="317" y="0"/>
                  <a:pt x="158" y="15"/>
                  <a:pt x="0" y="30"/>
                </a:cubicBezTo>
              </a:path>
            </a:pathLst>
          </a:custGeom>
          <a:noFill/>
          <a:ln w="4140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351400" y="4875120"/>
            <a:ext cx="587520" cy="936720"/>
          </a:xfrm>
          <a:custGeom>
            <a:avLst/>
            <a:gdLst/>
            <a:ahLst/>
            <a:rect l="l" t="t" r="r" b="b"/>
            <a:pathLst>
              <a:path w="370" h="590">
                <a:moveTo>
                  <a:pt x="53" y="0"/>
                </a:moveTo>
                <a:cubicBezTo>
                  <a:pt x="26" y="132"/>
                  <a:pt x="0" y="265"/>
                  <a:pt x="53" y="363"/>
                </a:cubicBezTo>
                <a:cubicBezTo>
                  <a:pt x="106" y="461"/>
                  <a:pt x="238" y="525"/>
                  <a:pt x="370" y="590"/>
                </a:cubicBezTo>
              </a:path>
            </a:pathLst>
          </a:custGeom>
          <a:noFill/>
          <a:ln w="4140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067280" y="3362400"/>
            <a:ext cx="1368360" cy="1512720"/>
          </a:xfrm>
          <a:custGeom>
            <a:avLst/>
            <a:gdLst/>
            <a:ahLst/>
            <a:rect l="l" t="t" r="r" b="b"/>
            <a:pathLst>
              <a:path w="862" h="953">
                <a:moveTo>
                  <a:pt x="0" y="0"/>
                </a:moveTo>
                <a:cubicBezTo>
                  <a:pt x="245" y="125"/>
                  <a:pt x="491" y="250"/>
                  <a:pt x="635" y="409"/>
                </a:cubicBezTo>
                <a:cubicBezTo>
                  <a:pt x="779" y="568"/>
                  <a:pt x="820" y="760"/>
                  <a:pt x="862" y="953"/>
                </a:cubicBezTo>
              </a:path>
            </a:pathLst>
          </a:custGeom>
          <a:noFill/>
          <a:ln w="4140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714920" y="3578400"/>
            <a:ext cx="1428840" cy="2233440"/>
          </a:xfrm>
          <a:custGeom>
            <a:avLst/>
            <a:gdLst/>
            <a:ahLst/>
            <a:rect l="l" t="t" r="r" b="b"/>
            <a:pathLst>
              <a:path w="900" h="1407">
                <a:moveTo>
                  <a:pt x="771" y="1407"/>
                </a:moveTo>
                <a:cubicBezTo>
                  <a:pt x="835" y="1025"/>
                  <a:pt x="900" y="644"/>
                  <a:pt x="771" y="409"/>
                </a:cubicBezTo>
                <a:cubicBezTo>
                  <a:pt x="642" y="174"/>
                  <a:pt x="321" y="87"/>
                  <a:pt x="0" y="0"/>
                </a:cubicBezTo>
              </a:path>
            </a:pathLst>
          </a:custGeom>
          <a:noFill/>
          <a:ln w="4140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0C3A-B534-4695-926D-0E9C963C41F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5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5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400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0"/>
                            </p:stCondLst>
                            <p:childTnLst>
                              <p:par>
                                <p:cTn id="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60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6000"/>
                            </p:stCondLst>
                            <p:childTnLst>
                              <p:par>
                                <p:cTn id="9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7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70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80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8000"/>
                            </p:stCondLst>
                            <p:childTnLst>
                              <p:par>
                                <p:cTn id="11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9" name=""/>
          <p:cNvGraphicFramePr/>
          <p:nvPr/>
        </p:nvGraphicFramePr>
        <p:xfrm>
          <a:off x="0" y="1419120"/>
          <a:ext cx="1009188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19120"/>
                    <a:ext cx="1009188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"/>
          <p:cNvSpPr txBox="1"/>
          <p:nvPr/>
        </p:nvSpPr>
        <p:spPr>
          <a:xfrm>
            <a:off x="218160" y="10080"/>
            <a:ext cx="8693280" cy="708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Book Antiqua"/>
              </a:rPr>
              <a:t>Conclusion: Results</a:t>
            </a:r>
            <a:endParaRPr b="1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2" name=""/>
          <p:cNvSpPr/>
          <p:nvPr/>
        </p:nvSpPr>
        <p:spPr>
          <a:xfrm>
            <a:off x="9069480" y="8618400"/>
            <a:ext cx="144360" cy="136800"/>
          </a:xfrm>
          <a:prstGeom prst="star5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9285120" y="8621640"/>
            <a:ext cx="144720" cy="136440"/>
          </a:xfrm>
          <a:prstGeom prst="star5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9501120" y="8621640"/>
            <a:ext cx="144360" cy="136440"/>
          </a:xfrm>
          <a:prstGeom prst="star5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124760" y="8621640"/>
            <a:ext cx="144360" cy="136440"/>
          </a:xfrm>
          <a:prstGeom prst="star5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108400" y="8621640"/>
            <a:ext cx="144720" cy="136440"/>
          </a:xfrm>
          <a:prstGeom prst="star5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324400" y="8624880"/>
            <a:ext cx="144360" cy="136440"/>
          </a:xfrm>
          <a:prstGeom prst="star5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540400" y="8624880"/>
            <a:ext cx="144360" cy="136440"/>
          </a:xfrm>
          <a:prstGeom prst="star5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8061480" y="8621640"/>
            <a:ext cx="144360" cy="136440"/>
          </a:xfrm>
          <a:prstGeom prst="star5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8277120" y="8624880"/>
            <a:ext cx="144720" cy="136440"/>
          </a:xfrm>
          <a:prstGeom prst="star5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8493120" y="8624880"/>
            <a:ext cx="144360" cy="136440"/>
          </a:xfrm>
          <a:prstGeom prst="star5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709120" y="8621640"/>
            <a:ext cx="144360" cy="136440"/>
          </a:xfrm>
          <a:prstGeom prst="star5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100400" y="8621640"/>
            <a:ext cx="144720" cy="136440"/>
          </a:xfrm>
          <a:prstGeom prst="star5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316400" y="8624880"/>
            <a:ext cx="144360" cy="136440"/>
          </a:xfrm>
          <a:prstGeom prst="star5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532400" y="8624880"/>
            <a:ext cx="144360" cy="136440"/>
          </a:xfrm>
          <a:prstGeom prst="star5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116760" y="8621640"/>
            <a:ext cx="144360" cy="136440"/>
          </a:xfrm>
          <a:prstGeom prst="star5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332400" y="8624880"/>
            <a:ext cx="144720" cy="136440"/>
          </a:xfrm>
          <a:prstGeom prst="star5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548400" y="8624880"/>
            <a:ext cx="144360" cy="136440"/>
          </a:xfrm>
          <a:prstGeom prst="star5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157480" y="8621640"/>
            <a:ext cx="144360" cy="136440"/>
          </a:xfrm>
          <a:prstGeom prst="star5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373480" y="8624880"/>
            <a:ext cx="144360" cy="136440"/>
          </a:xfrm>
          <a:prstGeom prst="star5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589120" y="8624880"/>
            <a:ext cx="144720" cy="136440"/>
          </a:xfrm>
          <a:prstGeom prst="star5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165480" y="8621640"/>
            <a:ext cx="144360" cy="136440"/>
          </a:xfrm>
          <a:prstGeom prst="star5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381480" y="8624880"/>
            <a:ext cx="144360" cy="136440"/>
          </a:xfrm>
          <a:prstGeom prst="star5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597120" y="8624880"/>
            <a:ext cx="144720" cy="136440"/>
          </a:xfrm>
          <a:prstGeom prst="star5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813120" y="8621640"/>
            <a:ext cx="144360" cy="136440"/>
          </a:xfrm>
          <a:prstGeom prst="star5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149480" y="8621640"/>
            <a:ext cx="144360" cy="136440"/>
          </a:xfrm>
          <a:prstGeom prst="star5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365120" y="8624880"/>
            <a:ext cx="144720" cy="136440"/>
          </a:xfrm>
          <a:prstGeom prst="star5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581120" y="8624880"/>
            <a:ext cx="144360" cy="136440"/>
          </a:xfrm>
          <a:prstGeom prst="star5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797120" y="8621640"/>
            <a:ext cx="144360" cy="136440"/>
          </a:xfrm>
          <a:prstGeom prst="star5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3"/>
          <a:stretch/>
        </p:blipFill>
        <p:spPr>
          <a:xfrm>
            <a:off x="496800" y="537228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Flag of Italy"/>
          <p:cNvPicPr/>
          <p:nvPr/>
        </p:nvPicPr>
        <p:blipFill>
          <a:blip r:embed="rId4"/>
          <a:stretch/>
        </p:blipFill>
        <p:spPr>
          <a:xfrm>
            <a:off x="1619280" y="5353200"/>
            <a:ext cx="792000" cy="52704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Flag of Italy"/>
          <p:cNvPicPr/>
          <p:nvPr/>
        </p:nvPicPr>
        <p:blipFill>
          <a:blip r:embed="rId5"/>
          <a:stretch/>
        </p:blipFill>
        <p:spPr>
          <a:xfrm>
            <a:off x="5867280" y="5425920"/>
            <a:ext cx="789120" cy="52560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6"/>
          <a:stretch/>
        </p:blipFill>
        <p:spPr>
          <a:xfrm>
            <a:off x="4788000" y="5375160"/>
            <a:ext cx="782640" cy="51912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7"/>
          <a:stretch/>
        </p:blipFill>
        <p:spPr>
          <a:xfrm>
            <a:off x="7883640" y="5448240"/>
            <a:ext cx="782640" cy="5191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8"/>
          <a:stretch/>
        </p:blipFill>
        <p:spPr>
          <a:xfrm>
            <a:off x="8962920" y="5448240"/>
            <a:ext cx="720720" cy="50652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9"/>
          <a:stretch/>
        </p:blipFill>
        <p:spPr>
          <a:xfrm>
            <a:off x="6943680" y="5448240"/>
            <a:ext cx="723960" cy="49068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10"/>
          <a:stretch/>
        </p:blipFill>
        <p:spPr>
          <a:xfrm>
            <a:off x="3706920" y="5364000"/>
            <a:ext cx="753840" cy="51624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11"/>
          <a:stretch/>
        </p:blipFill>
        <p:spPr>
          <a:xfrm>
            <a:off x="2698920" y="5375160"/>
            <a:ext cx="647640" cy="50508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1474920" y="3719520"/>
            <a:ext cx="288720" cy="276120"/>
          </a:xfrm>
          <a:prstGeom prst="star5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474920" y="3359160"/>
            <a:ext cx="288720" cy="276120"/>
          </a:xfrm>
          <a:prstGeom prst="star5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474920" y="2940120"/>
            <a:ext cx="288720" cy="276120"/>
          </a:xfrm>
          <a:prstGeom prst="star5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473120" y="2567160"/>
            <a:ext cx="289080" cy="276120"/>
          </a:xfrm>
          <a:prstGeom prst="star5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482920" y="3732120"/>
            <a:ext cx="288720" cy="276480"/>
          </a:xfrm>
          <a:prstGeom prst="star5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82920" y="3359160"/>
            <a:ext cx="288720" cy="276120"/>
          </a:xfrm>
          <a:prstGeom prst="star5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2920" y="2940120"/>
            <a:ext cx="288720" cy="276120"/>
          </a:xfrm>
          <a:prstGeom prst="star5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490920" y="3732120"/>
            <a:ext cx="289080" cy="276480"/>
          </a:xfrm>
          <a:prstGeom prst="star5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490920" y="3359160"/>
            <a:ext cx="289080" cy="276120"/>
          </a:xfrm>
          <a:prstGeom prst="star5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490920" y="2927520"/>
            <a:ext cx="289080" cy="276120"/>
          </a:xfrm>
          <a:prstGeom prst="star5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0920" y="2567160"/>
            <a:ext cx="289080" cy="276120"/>
          </a:xfrm>
          <a:prstGeom prst="star5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498920" y="3732120"/>
            <a:ext cx="289080" cy="276480"/>
          </a:xfrm>
          <a:prstGeom prst="star5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498920" y="3298680"/>
            <a:ext cx="289080" cy="276480"/>
          </a:xfrm>
          <a:prstGeom prst="star5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98920" y="2940120"/>
            <a:ext cx="289080" cy="276120"/>
          </a:xfrm>
          <a:prstGeom prst="star5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506920" y="3719520"/>
            <a:ext cx="289080" cy="276120"/>
          </a:xfrm>
          <a:prstGeom prst="star5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506920" y="3298680"/>
            <a:ext cx="289080" cy="276480"/>
          </a:xfrm>
          <a:prstGeom prst="star5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506920" y="2927520"/>
            <a:ext cx="289080" cy="276120"/>
          </a:xfrm>
          <a:prstGeom prst="star5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515280" y="3719520"/>
            <a:ext cx="288720" cy="276120"/>
          </a:xfrm>
          <a:prstGeom prst="star5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515280" y="3371760"/>
            <a:ext cx="288720" cy="276480"/>
          </a:xfrm>
          <a:prstGeom prst="star5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515280" y="2998800"/>
            <a:ext cx="288720" cy="276120"/>
          </a:xfrm>
          <a:prstGeom prst="star5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523280" y="3732120"/>
            <a:ext cx="288720" cy="276480"/>
          </a:xfrm>
          <a:prstGeom prst="star5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8531280" y="3719520"/>
            <a:ext cx="288720" cy="276120"/>
          </a:xfrm>
          <a:prstGeom prst="star5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8531280" y="3298680"/>
            <a:ext cx="288720" cy="276480"/>
          </a:xfrm>
          <a:prstGeom prst="star5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8531280" y="2940120"/>
            <a:ext cx="288720" cy="276120"/>
          </a:xfrm>
          <a:prstGeom prst="star5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8531280" y="2579760"/>
            <a:ext cx="288720" cy="276120"/>
          </a:xfrm>
          <a:prstGeom prst="star5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9539280" y="3732120"/>
            <a:ext cx="289080" cy="276480"/>
          </a:xfrm>
          <a:prstGeom prst="star5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9539280" y="3371760"/>
            <a:ext cx="289080" cy="276480"/>
          </a:xfrm>
          <a:prstGeom prst="star5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9539280" y="2998800"/>
            <a:ext cx="289080" cy="276120"/>
          </a:xfrm>
          <a:prstGeom prst="star5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3846-20E2-471F-9DD8-A01C85615CF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218160" y="10080"/>
            <a:ext cx="8693280" cy="708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Book Antiqua"/>
              </a:rPr>
              <a:t>How is this useful?</a:t>
            </a:r>
            <a:endParaRPr b="1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971640" y="1562040"/>
            <a:ext cx="8540640" cy="4121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77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100" spc="-1" strike="noStrike">
                <a:solidFill>
                  <a:srgbClr val="003366"/>
                </a:solidFill>
                <a:latin typeface="Book Antiqua"/>
              </a:rPr>
              <a:t>I-Bankers, Consultants can use the same principles to plan sales trips (“The Traveling Salesman Problem”)</a:t>
            </a:r>
            <a:endParaRPr b="0" lang="en-US" sz="3100" spc="-1" strike="noStrike">
              <a:solidFill>
                <a:srgbClr val="003366"/>
              </a:solidFill>
              <a:latin typeface="Book Antiqua"/>
            </a:endParaRPr>
          </a:p>
          <a:p>
            <a:pPr marL="379440" indent="-379440">
              <a:spcBef>
                <a:spcPts val="77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100" spc="-1" strike="noStrike">
                <a:solidFill>
                  <a:srgbClr val="003366"/>
                </a:solidFill>
                <a:latin typeface="Book Antiqua"/>
              </a:rPr>
              <a:t>Decision Variables: Order of cities to visit</a:t>
            </a:r>
            <a:endParaRPr b="0" lang="en-US" sz="3100" spc="-1" strike="noStrike">
              <a:solidFill>
                <a:srgbClr val="003366"/>
              </a:solidFill>
              <a:latin typeface="Book Antiqua"/>
            </a:endParaRPr>
          </a:p>
          <a:p>
            <a:pPr marL="379440" indent="-379440">
              <a:spcBef>
                <a:spcPts val="77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100" spc="-1" strike="noStrike">
                <a:solidFill>
                  <a:srgbClr val="003366"/>
                </a:solidFill>
                <a:latin typeface="Book Antiqua"/>
              </a:rPr>
              <a:t>Objective Function: Minimize cost of travel</a:t>
            </a:r>
            <a:endParaRPr b="0" lang="en-US" sz="3100" spc="-1" strike="noStrike">
              <a:solidFill>
                <a:srgbClr val="00336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E427-EBFC-4B82-9FAD-C4F89A3E465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971640" y="1562040"/>
            <a:ext cx="8540640" cy="4121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rmAutofit/>
          </a:bodyPr>
          <a:p>
            <a:pPr marL="379440" indent="0" algn="ctr">
              <a:spcBef>
                <a:spcPts val="774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100" spc="-1" strike="noStrike">
                <a:solidFill>
                  <a:srgbClr val="003366"/>
                </a:solidFill>
                <a:latin typeface="Book Antiqua"/>
              </a:rPr>
              <a:t>Q &amp; A</a:t>
            </a:r>
            <a:endParaRPr b="0" lang="en-US" sz="3100" spc="-1" strike="noStrike">
              <a:solidFill>
                <a:srgbClr val="00336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7CEC-F2D0-4B53-91C9-3435F1A16C3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2200" y="50760"/>
            <a:ext cx="6647040" cy="936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Book Antiqua"/>
              </a:rPr>
              <a:t>Managerial Problem Definition</a:t>
            </a:r>
            <a:endParaRPr b="1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82640" y="1306440"/>
            <a:ext cx="8540640" cy="6315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8000"/>
          </a:bodyPr>
          <a:p>
            <a:pPr marL="371520" indent="-371520">
              <a:lnSpc>
                <a:spcPct val="12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Book Antiqua"/>
              </a:rPr>
              <a:t>The purpose of our model is to help us plan a trip to Europe</a:t>
            </a:r>
            <a:endParaRPr b="0" lang="en-US" sz="2200" spc="-1" strike="noStrike">
              <a:solidFill>
                <a:srgbClr val="003366"/>
              </a:solidFill>
              <a:latin typeface="Book Antiqua"/>
            </a:endParaRPr>
          </a:p>
          <a:p>
            <a:pPr marL="371520" indent="-371520">
              <a:lnSpc>
                <a:spcPct val="12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Book Antiqua"/>
              </a:rPr>
              <a:t>We have a fixed budget for money and total time to spend on our vacation before we return to New York to start our jobs</a:t>
            </a:r>
            <a:endParaRPr b="0" lang="en-US" sz="2200" spc="-1" strike="noStrike">
              <a:solidFill>
                <a:srgbClr val="003366"/>
              </a:solidFill>
              <a:latin typeface="Book Antiqua"/>
            </a:endParaRPr>
          </a:p>
          <a:p>
            <a:pPr marL="371520" indent="-371520">
              <a:lnSpc>
                <a:spcPct val="12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Book Antiqua"/>
              </a:rPr>
              <a:t>Nine cities that we would like to visit include:</a:t>
            </a:r>
            <a:endParaRPr b="0" lang="en-US" sz="2200" spc="-1" strike="noStrike">
              <a:solidFill>
                <a:srgbClr val="003366"/>
              </a:solidFill>
              <a:latin typeface="Book Antiqua"/>
            </a:endParaRPr>
          </a:p>
          <a:p>
            <a:pPr lvl="1" marL="807480" indent="-311040">
              <a:lnSpc>
                <a:spcPct val="12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Book Antiqua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ook Antiqua"/>
              </a:rPr>
              <a:t>Amsterdam, Rome, Brussels, Paris, Madrid, Milan, Lisbon, Barcelona and London</a:t>
            </a:r>
            <a:endParaRPr b="0" lang="en-US" sz="2000" spc="-1" strike="noStrike">
              <a:solidFill>
                <a:srgbClr val="003366"/>
              </a:solidFill>
              <a:latin typeface="Book Antiqua"/>
            </a:endParaRPr>
          </a:p>
          <a:p>
            <a:pPr marL="371520" indent="-371520">
              <a:lnSpc>
                <a:spcPct val="12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Book Antiqua"/>
              </a:rPr>
              <a:t>We ascribed a preferred number of days as well as a minimum number of days we would like to stay in each city</a:t>
            </a:r>
            <a:endParaRPr b="0" lang="en-US" sz="2200" spc="-1" strike="noStrike">
              <a:solidFill>
                <a:srgbClr val="003366"/>
              </a:solidFill>
              <a:latin typeface="Book Antiqua"/>
            </a:endParaRPr>
          </a:p>
          <a:p>
            <a:pPr marL="371520" indent="-371520">
              <a:lnSpc>
                <a:spcPct val="12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Book Antiqua"/>
              </a:rPr>
              <a:t>We also expressed a preference for a certain level of hotel</a:t>
            </a:r>
            <a:endParaRPr b="0" lang="en-US" sz="2200" spc="-1" strike="noStrike">
              <a:solidFill>
                <a:srgbClr val="003366"/>
              </a:solidFill>
              <a:latin typeface="Book Antiqua"/>
            </a:endParaRPr>
          </a:p>
          <a:p>
            <a:pPr marL="371520" indent="-371520">
              <a:lnSpc>
                <a:spcPct val="12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Book Antiqua"/>
              </a:rPr>
              <a:t>Based on actual cost, travel time and general preference constraints we used our model to determine:</a:t>
            </a:r>
            <a:endParaRPr b="0" lang="en-US" sz="2200" spc="-1" strike="noStrike">
              <a:solidFill>
                <a:srgbClr val="003366"/>
              </a:solidFill>
              <a:latin typeface="Book Antiqua"/>
            </a:endParaRPr>
          </a:p>
          <a:p>
            <a:pPr lvl="1" marL="807480" indent="-311040">
              <a:lnSpc>
                <a:spcPct val="12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Book Antiqua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ook Antiqua"/>
              </a:rPr>
              <a:t>The order in which to visit selected cities</a:t>
            </a:r>
            <a:endParaRPr b="0" lang="en-US" sz="2000" spc="-1" strike="noStrike">
              <a:solidFill>
                <a:srgbClr val="003366"/>
              </a:solidFill>
              <a:latin typeface="Book Antiqua"/>
            </a:endParaRPr>
          </a:p>
          <a:p>
            <a:pPr lvl="1" marL="807480" indent="-311040">
              <a:lnSpc>
                <a:spcPct val="12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Book Antiqua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ook Antiqua"/>
              </a:rPr>
              <a:t>Mode of travel (train vs. plane)</a:t>
            </a:r>
            <a:endParaRPr b="0" lang="en-US" sz="2000" spc="-1" strike="noStrike">
              <a:solidFill>
                <a:srgbClr val="003366"/>
              </a:solidFill>
              <a:latin typeface="Book Antiqua"/>
            </a:endParaRPr>
          </a:p>
          <a:p>
            <a:pPr lvl="1" marL="807480" indent="-311040">
              <a:lnSpc>
                <a:spcPct val="12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Book Antiqua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ook Antiqua"/>
              </a:rPr>
              <a:t>The class of hotel in which to stay (1 to 5 star)</a:t>
            </a:r>
            <a:endParaRPr b="0" lang="en-US" sz="2000" spc="-1" strike="noStrike">
              <a:solidFill>
                <a:srgbClr val="00336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A761-8A05-4F35-AF0B-19B4581F4BA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6680" y="-41400"/>
            <a:ext cx="8796240" cy="811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Book Antiqua"/>
              </a:rPr>
              <a:t>Decision Variables</a:t>
            </a:r>
            <a:endParaRPr b="1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95240" y="1418760"/>
            <a:ext cx="9104400" cy="6170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lnSpc>
                <a:spcPct val="180000"/>
              </a:lnSpc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Book Antiqua"/>
              </a:rPr>
              <a:t>Which cities to visit</a:t>
            </a:r>
            <a:endParaRPr b="0" lang="en-US" sz="2700" spc="-1" strike="noStrike">
              <a:solidFill>
                <a:srgbClr val="003366"/>
              </a:solidFill>
              <a:latin typeface="Book Antiqua"/>
            </a:endParaRPr>
          </a:p>
          <a:p>
            <a:pPr marL="379440" indent="-379440">
              <a:lnSpc>
                <a:spcPct val="180000"/>
              </a:lnSpc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Book Antiqua"/>
              </a:rPr>
              <a:t>Order in which cities should be visited</a:t>
            </a:r>
            <a:endParaRPr b="0" lang="en-US" sz="2700" spc="-1" strike="noStrike">
              <a:solidFill>
                <a:srgbClr val="003366"/>
              </a:solidFill>
              <a:latin typeface="Book Antiqua"/>
            </a:endParaRPr>
          </a:p>
          <a:p>
            <a:pPr marL="379440" indent="-379440">
              <a:lnSpc>
                <a:spcPct val="180000"/>
              </a:lnSpc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Book Antiqua"/>
              </a:rPr>
              <a:t>Number of days to spend in each city</a:t>
            </a:r>
            <a:endParaRPr b="0" lang="en-US" sz="2700" spc="-1" strike="noStrike">
              <a:solidFill>
                <a:srgbClr val="003366"/>
              </a:solidFill>
              <a:latin typeface="Book Antiqua"/>
            </a:endParaRPr>
          </a:p>
          <a:p>
            <a:pPr marL="379440" indent="-379440">
              <a:lnSpc>
                <a:spcPct val="1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Book Antiqua"/>
              </a:rPr>
              <a:t>Mode of transportation between cities (plane </a:t>
            </a:r>
            <a:r>
              <a:rPr b="0" lang="en-US" sz="2800" spc="-1" strike="noStrike">
                <a:solidFill>
                  <a:srgbClr val="003366"/>
                </a:solidFill>
                <a:latin typeface="Book Antiqua"/>
              </a:rPr>
              <a:t>or train)</a:t>
            </a:r>
            <a:endParaRPr b="0" lang="en-US" sz="2800" spc="-1" strike="noStrike">
              <a:solidFill>
                <a:srgbClr val="003366"/>
              </a:solidFill>
              <a:latin typeface="Book Antiqua"/>
            </a:endParaRPr>
          </a:p>
          <a:p>
            <a:pPr marL="379440" indent="-379440">
              <a:lnSpc>
                <a:spcPct val="1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ook Antiqua"/>
              </a:rPr>
              <a:t>Which hotel class to stay in (4 or 5 star preferred)</a:t>
            </a:r>
            <a:endParaRPr b="0" lang="en-US" sz="2800" spc="-1" strike="noStrike">
              <a:solidFill>
                <a:srgbClr val="00336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8B9F-2910-45BE-9F32-9BBEA47012C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6680" y="-41400"/>
            <a:ext cx="8796240" cy="811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Book Antiqua"/>
              </a:rPr>
              <a:t>Constraints</a:t>
            </a:r>
            <a:endParaRPr b="1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71640" y="1274760"/>
            <a:ext cx="8540640" cy="6315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lnSpc>
                <a:spcPct val="11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Book Antiqua"/>
              </a:rPr>
              <a:t>Maximum dollar amount to spend ($8,000)</a:t>
            </a:r>
            <a:endParaRPr b="0" lang="en-US" sz="2200" spc="-1" strike="noStrike">
              <a:solidFill>
                <a:srgbClr val="003366"/>
              </a:solidFill>
              <a:latin typeface="Book Antiqua"/>
            </a:endParaRPr>
          </a:p>
          <a:p>
            <a:pPr lvl="1" marL="824040" indent="-317520">
              <a:lnSpc>
                <a:spcPct val="11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Book Antiqua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ook Antiqua"/>
              </a:rPr>
              <a:t>$2,500 for food and entertainment</a:t>
            </a:r>
            <a:endParaRPr b="0" lang="en-US" sz="2000" spc="-1" strike="noStrike">
              <a:solidFill>
                <a:srgbClr val="003366"/>
              </a:solidFill>
              <a:latin typeface="Book Antiqua"/>
            </a:endParaRPr>
          </a:p>
          <a:p>
            <a:pPr lvl="1" marL="824040" indent="-317520">
              <a:lnSpc>
                <a:spcPct val="11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Book Antiqua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ook Antiqua"/>
              </a:rPr>
              <a:t>$2,500 for ticket fare</a:t>
            </a:r>
            <a:endParaRPr b="0" lang="en-US" sz="2000" spc="-1" strike="noStrike">
              <a:solidFill>
                <a:srgbClr val="003366"/>
              </a:solidFill>
              <a:latin typeface="Book Antiqua"/>
            </a:endParaRPr>
          </a:p>
          <a:p>
            <a:pPr lvl="1" marL="824040" indent="-317520">
              <a:lnSpc>
                <a:spcPct val="11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Book Antiqua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ook Antiqua"/>
              </a:rPr>
              <a:t>Remaining $3,000 for hotel</a:t>
            </a:r>
            <a:endParaRPr b="0" lang="en-US" sz="2000" spc="-1" strike="noStrike">
              <a:solidFill>
                <a:srgbClr val="003366"/>
              </a:solidFill>
              <a:latin typeface="Book Antiqua"/>
            </a:endParaRPr>
          </a:p>
          <a:p>
            <a:pPr marL="379440" indent="-379440">
              <a:lnSpc>
                <a:spcPct val="11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Book Antiqua"/>
              </a:rPr>
              <a:t>Depending on the minimum and maximum number of days we ascribed to each city the total vacation should be between 14 and 27 days</a:t>
            </a:r>
            <a:endParaRPr b="0" lang="en-US" sz="2200" spc="-1" strike="noStrike">
              <a:solidFill>
                <a:srgbClr val="003366"/>
              </a:solidFill>
              <a:latin typeface="Book Antiqua"/>
            </a:endParaRPr>
          </a:p>
          <a:p>
            <a:pPr marL="379440" indent="-379440">
              <a:lnSpc>
                <a:spcPct val="11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Book Antiqua"/>
              </a:rPr>
              <a:t>We used the penalty method to ensure</a:t>
            </a:r>
            <a:endParaRPr b="0" lang="en-US" sz="2200" spc="-1" strike="noStrike">
              <a:solidFill>
                <a:srgbClr val="003366"/>
              </a:solidFill>
              <a:latin typeface="Book Antiqua"/>
            </a:endParaRPr>
          </a:p>
          <a:p>
            <a:pPr lvl="1" marL="824040" indent="-317520">
              <a:lnSpc>
                <a:spcPct val="11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Book Antiqua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ook Antiqua"/>
              </a:rPr>
              <a:t>Higher class hotel is chosen over lower class as long as the budget for hotel stay is not exceeded</a:t>
            </a:r>
            <a:endParaRPr b="0" lang="en-US" sz="2000" spc="-1" strike="noStrike">
              <a:solidFill>
                <a:srgbClr val="003366"/>
              </a:solidFill>
              <a:latin typeface="Book Antiqua"/>
            </a:endParaRPr>
          </a:p>
          <a:p>
            <a:pPr lvl="1" marL="824040" indent="-317520">
              <a:lnSpc>
                <a:spcPct val="11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Book Antiqua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ook Antiqua"/>
              </a:rPr>
              <a:t>Traveling time between cities is kept at a minimum, longer traveling times had increasing penalties attached to them</a:t>
            </a:r>
            <a:endParaRPr b="0" lang="en-US" sz="2000" spc="-1" strike="noStrike">
              <a:solidFill>
                <a:srgbClr val="003366"/>
              </a:solidFill>
              <a:latin typeface="Book Antiqua"/>
            </a:endParaRPr>
          </a:p>
          <a:p>
            <a:pPr marL="379440" indent="-379440">
              <a:lnSpc>
                <a:spcPct val="11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Book Antiqua"/>
              </a:rPr>
              <a:t>At the end we had to introduce a new “Sub-Tour” constraint to ensure we visit all the cities as a continuous “circuit” and do not come back to New York and then leave again</a:t>
            </a:r>
            <a:endParaRPr b="0" lang="en-US" sz="2200" spc="-1" strike="noStrike">
              <a:solidFill>
                <a:srgbClr val="003366"/>
              </a:solidFill>
              <a:latin typeface="Book Antiqua"/>
            </a:endParaRPr>
          </a:p>
          <a:p>
            <a:pPr marL="37944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200" spc="-1" strike="noStrike">
              <a:solidFill>
                <a:srgbClr val="00336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A18E-6121-45D8-99D2-F3C598C4469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6680" y="-41400"/>
            <a:ext cx="8796240" cy="811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Book Antiqua"/>
              </a:rPr>
              <a:t>Number of Days to Spend in Each City</a:t>
            </a:r>
            <a:endParaRPr b="1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187280" y="2859120"/>
            <a:ext cx="7704360" cy="4318200"/>
            <a:chOff x="1187280" y="2859120"/>
            <a:chExt cx="7704360" cy="4318200"/>
          </a:xfrm>
        </p:grpSpPr>
        <p:pic>
          <p:nvPicPr>
            <p:cNvPr id="113" name="" descr="big ben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6083280" y="2859120"/>
              <a:ext cx="2798640" cy="199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7380360" y="4948200"/>
              <a:ext cx="1511280" cy="7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3366"/>
                  </a:solidFill>
                  <a:latin typeface="Arial"/>
                </a:rPr>
                <a:t>Big Ben and Westminster London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pic>
          <p:nvPicPr>
            <p:cNvPr id="115" name="" descr=""/>
            <p:cNvPicPr/>
            <p:nvPr/>
          </p:nvPicPr>
          <p:blipFill>
            <a:blip r:embed="rId3"/>
            <a:stretch/>
          </p:blipFill>
          <p:spPr>
            <a:xfrm>
              <a:off x="3490920" y="3159000"/>
              <a:ext cx="2624040" cy="186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3875040" y="2916360"/>
              <a:ext cx="20876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3366"/>
                  </a:solidFill>
                  <a:latin typeface="Arial"/>
                </a:rPr>
                <a:t>Plaza Mayor Madrid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pic>
          <p:nvPicPr>
            <p:cNvPr id="117" name="" descr=""/>
            <p:cNvPicPr/>
            <p:nvPr/>
          </p:nvPicPr>
          <p:blipFill>
            <a:blip r:embed="rId4"/>
            <a:stretch/>
          </p:blipFill>
          <p:spPr>
            <a:xfrm>
              <a:off x="1332000" y="3701880"/>
              <a:ext cx="2408040" cy="180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1187280" y="5518080"/>
              <a:ext cx="2089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3366"/>
                  </a:solidFill>
                  <a:latin typeface="Arial"/>
                </a:rPr>
                <a:t>Royal Palace Madrid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584520" y="6872400"/>
              <a:ext cx="2111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3366"/>
                  </a:solidFill>
                  <a:latin typeface="Arial"/>
                </a:rPr>
                <a:t>Eiffel Tower Pari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pic>
          <p:nvPicPr>
            <p:cNvPr id="120" name="" descr=""/>
            <p:cNvPicPr/>
            <p:nvPr/>
          </p:nvPicPr>
          <p:blipFill>
            <a:blip r:embed="rId5"/>
            <a:stretch/>
          </p:blipFill>
          <p:spPr>
            <a:xfrm>
              <a:off x="3089160" y="5018040"/>
              <a:ext cx="2776680" cy="18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5724360" y="6156360"/>
              <a:ext cx="1944720" cy="7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3366"/>
                  </a:solidFill>
                  <a:latin typeface="Arial"/>
                </a:rPr>
                <a:t>Illa de la Discordia (Island of Discord) Barcelona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pic>
          <p:nvPicPr>
            <p:cNvPr id="122" name="" descr=""/>
            <p:cNvPicPr/>
            <p:nvPr/>
          </p:nvPicPr>
          <p:blipFill>
            <a:blip r:embed="rId6"/>
            <a:stretch/>
          </p:blipFill>
          <p:spPr>
            <a:xfrm>
              <a:off x="5292720" y="4456080"/>
              <a:ext cx="2373480" cy="175896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23" name=""/>
          <p:cNvGraphicFramePr/>
          <p:nvPr/>
        </p:nvGraphicFramePr>
        <p:xfrm>
          <a:off x="216000" y="1490760"/>
          <a:ext cx="9683640" cy="819000"/>
        </p:xfrm>
        <a:graphic>
          <a:graphicData uri="http://schemas.openxmlformats.org/drawingml/2006/table">
            <a:tbl>
              <a:tblPr/>
              <a:tblGrid>
                <a:gridCol w="966600"/>
                <a:gridCol w="1013040"/>
                <a:gridCol w="927000"/>
                <a:gridCol w="966600"/>
                <a:gridCol w="970200"/>
                <a:gridCol w="966600"/>
                <a:gridCol w="966960"/>
                <a:gridCol w="969840"/>
                <a:gridCol w="970200"/>
                <a:gridCol w="9666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Book Antiqua"/>
                          <a:ea typeface="Arial"/>
                        </a:rPr>
                        <a:t>Amsterdam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Book Antiqua"/>
                          <a:ea typeface="Arial"/>
                        </a:rPr>
                        <a:t>Rome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Book Antiqua"/>
                          <a:ea typeface="Arial"/>
                        </a:rPr>
                        <a:t>Brussels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Book Antiqua"/>
                          <a:ea typeface="Arial"/>
                        </a:rPr>
                        <a:t>Paris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Book Antiqua"/>
                          <a:ea typeface="Arial"/>
                        </a:rPr>
                        <a:t>Madrid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Book Antiqua"/>
                          <a:ea typeface="Arial"/>
                        </a:rPr>
                        <a:t>Milan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Book Antiqua"/>
                          <a:ea typeface="Arial"/>
                        </a:rPr>
                        <a:t>Lisbon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Book Antiqua"/>
                          <a:ea typeface="Arial"/>
                        </a:rPr>
                        <a:t>Barcelona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Book Antiqua"/>
                          <a:ea typeface="Arial"/>
                        </a:rPr>
                        <a:t>London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Book Antiqua"/>
                          <a:ea typeface="Arial"/>
                        </a:rPr>
                        <a:t>Pref. Days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Book Antiqua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Book Antiqua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Book Antiqua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Book Antiqua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Book Antiqua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Book Antiqua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Book Antiqua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Book Antiqua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Book Antiqua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Book Antiqua"/>
                          <a:ea typeface="Arial"/>
                        </a:rPr>
                        <a:t>Min. Days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Book Antiqua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Book Antiqua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Book Antiqua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Book Antiqua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Book Antiqua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Book Antiqua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Book Antiqua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Book Antiqua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Book Antiqua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7878-F268-4252-B942-676502203D7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218160" y="10080"/>
            <a:ext cx="8693280" cy="708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Book Antiqua"/>
              </a:rPr>
              <a:t>Preference for Hotel Stay &amp; Travel Time</a:t>
            </a:r>
            <a:endParaRPr b="1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968560" y="1652760"/>
          <a:ext cx="4194000" cy="2477880"/>
        </p:xfrm>
        <a:graphic>
          <a:graphicData uri="http://schemas.openxmlformats.org/drawingml/2006/table">
            <a:tbl>
              <a:tblPr/>
              <a:tblGrid>
                <a:gridCol w="2093760"/>
                <a:gridCol w="210024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2700" spc="-1" strike="noStrike">
                          <a:solidFill>
                            <a:srgbClr val="003366"/>
                          </a:solidFill>
                          <a:latin typeface="Book Antiqua"/>
                          <a:ea typeface="Arial"/>
                        </a:rPr>
                        <a:t>Stars</a:t>
                      </a:r>
                      <a:endParaRPr b="0" lang="en-US" sz="2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2700" spc="-1" strike="noStrike">
                          <a:solidFill>
                            <a:srgbClr val="003366"/>
                          </a:solidFill>
                          <a:latin typeface="Book Antiqua"/>
                          <a:ea typeface="Arial"/>
                        </a:rPr>
                        <a:t>Preference</a:t>
                      </a:r>
                      <a:endParaRPr b="0" lang="en-US" sz="2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Book Antiqua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Book Antiqua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Book Antiqua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Book Antiqua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Book Antiqua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3105000" y="2222640"/>
            <a:ext cx="216000" cy="204480"/>
          </a:xfrm>
          <a:prstGeom prst="star5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105000" y="2593800"/>
            <a:ext cx="216000" cy="204840"/>
          </a:xfrm>
          <a:prstGeom prst="star5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94080" y="2593800"/>
            <a:ext cx="216000" cy="204840"/>
          </a:xfrm>
          <a:prstGeom prst="star5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681360" y="3014640"/>
            <a:ext cx="216000" cy="204840"/>
          </a:xfrm>
          <a:prstGeom prst="star5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3014640"/>
            <a:ext cx="216000" cy="204840"/>
          </a:xfrm>
          <a:prstGeom prst="star5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5000" y="3014640"/>
            <a:ext cx="216000" cy="204840"/>
          </a:xfrm>
          <a:prstGeom prst="star5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05000" y="3386160"/>
            <a:ext cx="216000" cy="204840"/>
          </a:xfrm>
          <a:prstGeom prst="star5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394080" y="3386160"/>
            <a:ext cx="216000" cy="204840"/>
          </a:xfrm>
          <a:prstGeom prst="star5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681360" y="3386160"/>
            <a:ext cx="216000" cy="204840"/>
          </a:xfrm>
          <a:prstGeom prst="star5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68640" y="3386160"/>
            <a:ext cx="216000" cy="204840"/>
          </a:xfrm>
          <a:prstGeom prst="star5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05000" y="3817800"/>
            <a:ext cx="216000" cy="204840"/>
          </a:xfrm>
          <a:prstGeom prst="star5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681360" y="3817800"/>
            <a:ext cx="216000" cy="204840"/>
          </a:xfrm>
          <a:prstGeom prst="star5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68640" y="3807000"/>
            <a:ext cx="216000" cy="204480"/>
          </a:xfrm>
          <a:prstGeom prst="star5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257720" y="3807000"/>
            <a:ext cx="216000" cy="204480"/>
          </a:xfrm>
          <a:prstGeom prst="star5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394080" y="3807000"/>
            <a:ext cx="216000" cy="204480"/>
          </a:xfrm>
          <a:prstGeom prst="star5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962440" y="4484520"/>
          <a:ext cx="4194000" cy="2477880"/>
        </p:xfrm>
        <a:graphic>
          <a:graphicData uri="http://schemas.openxmlformats.org/drawingml/2006/table">
            <a:tbl>
              <a:tblPr/>
              <a:tblGrid>
                <a:gridCol w="2093400"/>
                <a:gridCol w="210060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2700" spc="-1" strike="noStrike">
                          <a:solidFill>
                            <a:srgbClr val="003366"/>
                          </a:solidFill>
                          <a:latin typeface="Book Antiqua"/>
                          <a:ea typeface="Arial"/>
                        </a:rPr>
                        <a:t>Travel Time</a:t>
                      </a:r>
                      <a:endParaRPr b="0" lang="en-US" sz="2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2700" spc="-1" strike="noStrike">
                          <a:solidFill>
                            <a:srgbClr val="003366"/>
                          </a:solidFill>
                          <a:latin typeface="Book Antiqua"/>
                          <a:ea typeface="Arial"/>
                        </a:rPr>
                        <a:t>Preference</a:t>
                      </a:r>
                      <a:endParaRPr b="0" lang="en-US" sz="2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Book Antiqua"/>
                          <a:ea typeface="Arial"/>
                        </a:rPr>
                        <a:t>0 to 2 hr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Book Antiqua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Book Antiqua"/>
                          <a:ea typeface="Arial"/>
                        </a:rPr>
                        <a:t>2 to 4 hr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Book Antiqua"/>
                          <a:ea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Book Antiqua"/>
                          <a:ea typeface="Arial"/>
                        </a:rPr>
                        <a:t>4 to 6 hr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Book Antiqua"/>
                          <a:ea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Book Antiqua"/>
                          <a:ea typeface="Arial"/>
                        </a:rPr>
                        <a:t>6 to 8 hr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Book Antiqua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Book Antiqua"/>
                          <a:ea typeface="Arial"/>
                        </a:rPr>
                        <a:t>8+ hr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Book Antiqua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B05F-33B2-4FC5-A031-C1771F8299C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8920" y="50400"/>
            <a:ext cx="8796600" cy="811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Book Antiqua"/>
              </a:rPr>
              <a:t>Model Decision Variable Overview</a:t>
            </a:r>
            <a:endParaRPr b="1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77880" y="1419120"/>
          <a:ext cx="8934480" cy="561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7880" y="1419120"/>
                    <a:ext cx="8934480" cy="56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 flipH="1">
            <a:off x="8459640" y="2136600"/>
            <a:ext cx="1441440" cy="576360"/>
          </a:xfrm>
          <a:prstGeom prst="borderCallout1">
            <a:avLst>
              <a:gd name="adj1" fmla="val 18750"/>
              <a:gd name="adj2" fmla="val -8333"/>
              <a:gd name="adj3" fmla="val 51513"/>
              <a:gd name="adj4" fmla="val 111782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Book Antiqua"/>
                <a:ea typeface="ＭＳ Ｐゴシック"/>
              </a:rPr>
              <a:t>Order of Citi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8459640" y="4010040"/>
            <a:ext cx="1440000" cy="865080"/>
          </a:xfrm>
          <a:prstGeom prst="borderCallout1">
            <a:avLst>
              <a:gd name="adj1" fmla="val 18750"/>
              <a:gd name="adj2" fmla="val -8333"/>
              <a:gd name="adj3" fmla="val 13208"/>
              <a:gd name="adj4" fmla="val 16140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Book Antiqua"/>
                <a:ea typeface="ＭＳ Ｐゴシック"/>
              </a:rPr>
              <a:t>Number of Days in </a:t>
            </a:r>
            <a:br>
              <a:rPr sz="1600"/>
            </a:br>
            <a:r>
              <a:rPr b="1" lang="en-US" sz="1600" spc="-1" strike="noStrike">
                <a:solidFill>
                  <a:srgbClr val="003366"/>
                </a:solidFill>
                <a:latin typeface="Book Antiqua"/>
                <a:ea typeface="ＭＳ Ｐゴシック"/>
              </a:rPr>
              <a:t>Each City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8459640" y="6159600"/>
            <a:ext cx="1440000" cy="587160"/>
          </a:xfrm>
          <a:prstGeom prst="borderCallout1">
            <a:avLst>
              <a:gd name="adj1" fmla="val 18750"/>
              <a:gd name="adj2" fmla="val -8333"/>
              <a:gd name="adj3" fmla="val 19458"/>
              <a:gd name="adj4" fmla="val 16151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Book Antiqua"/>
                <a:ea typeface="ＭＳ Ｐゴシック"/>
              </a:rPr>
              <a:t>Hotel</a:t>
            </a:r>
            <a:br>
              <a:rPr sz="1600"/>
            </a:br>
            <a:r>
              <a:rPr b="1" lang="en-US" sz="1600" spc="-1" strike="noStrike">
                <a:solidFill>
                  <a:srgbClr val="003366"/>
                </a:solidFill>
                <a:latin typeface="Book Antiqua"/>
                <a:ea typeface="ＭＳ Ｐゴシック"/>
              </a:rPr>
              <a:t>Clas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459640" y="4875120"/>
            <a:ext cx="1440000" cy="580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Book Antiqua"/>
                <a:ea typeface="Arial"/>
              </a:rPr>
              <a:t>Binary &amp; SumProduc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459640" y="3665520"/>
            <a:ext cx="1440000" cy="3373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Book Antiqua"/>
                <a:ea typeface="Arial"/>
              </a:rPr>
              <a:t>Variable 2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459640" y="6746760"/>
            <a:ext cx="1440000" cy="3373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Book Antiqua"/>
                <a:ea typeface="Arial"/>
              </a:rPr>
              <a:t>Binary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459640" y="5824440"/>
            <a:ext cx="1440000" cy="3373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Book Antiqua"/>
                <a:ea typeface="Arial"/>
              </a:rPr>
              <a:t>Variable 3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459640" y="2714760"/>
            <a:ext cx="1440000" cy="3373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Book Antiqua"/>
                <a:ea typeface="Arial"/>
              </a:rPr>
              <a:t>Binary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459640" y="1851120"/>
            <a:ext cx="1440000" cy="3373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Book Antiqua"/>
                <a:ea typeface="Arial"/>
              </a:rPr>
              <a:t>Variable 1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BD4C-A6B9-4F51-A353-64EFF555A32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6680" y="102960"/>
            <a:ext cx="8796240" cy="811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Data: Flight Cost &amp; Travel Time</a:t>
            </a:r>
            <a:endParaRPr b="1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971640" y="1784520"/>
          <a:ext cx="8928000" cy="4458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784520"/>
                    <a:ext cx="8928000" cy="44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1160-9AC9-40FD-8E2A-CE0D5BA632A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8T11:18:36Z</dcterms:created>
  <dc:creator>Chunlawat</dc:creator>
  <dc:description/>
  <cp:keywords/>
  <dc:language>en-US</dc:language>
  <cp:lastModifiedBy>Brian P. Angeli</cp:lastModifiedBy>
  <dcterms:modified xsi:type="dcterms:W3CDTF">2006-05-03T02:37:46Z</dcterms:modified>
  <cp:revision>13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875761033</vt:lpwstr>
  </property>
</Properties>
</file>